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5AD0-1449-4D4E-9B91-A7FD164AC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17FC-04CE-4346-8C04-30A701CC9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8549-0AE3-4FDA-A567-CC7E5A644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E25D-722D-402B-9956-C2A3ECBF8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22B7-5F73-4EF1-AE0A-68E336A35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7F9E-56BD-4D10-862D-F7AADDB70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F7FA-EFD5-4401-8422-1FE0B2C49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7436-B1A0-4C05-878D-0C5B754A3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8671-6B18-4D23-B372-F1058F86D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ED25-6C35-431A-B145-61383F26C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6BD5-63F1-472E-9DD9-8292B2CA2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FF76-2D19-41DA-B580-01B603F7B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480" y="6477120"/>
            <a:ext cx="6477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  <a:ea typeface="宋体"/>
              </a:rPr>
              <a:t>International Seminar Russian Federation, 14-15 Sept;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246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8112-A19D-4913-B70F-48DFA9E815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Рождаемость и опыт реализации политики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 на примере Франции </a:t>
            </a:r>
            <a:br>
              <a:rPr sz="1800"/>
            </a:br>
            <a:br>
              <a:rPr sz="1800"/>
            </a:b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François Héra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365760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3429000"/>
          <a:ext cx="182880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429000"/>
                    <a:ext cx="1828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80880" y="4114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      N       E     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48006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«Низкая рождаемость в Российской Федерации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Вызовы и стратегические подходы»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"/>
              </a:rPr>
              <a:t>Международный семинар - ЮНФП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"/>
              </a:rPr>
              <a:t>Москва, Российская Федерация, 14-15 сентября 2006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7682-4E16-4943-B877-26DDCA9884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907920"/>
          <a:ext cx="879156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79156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57A7-218C-4404-8E1C-7382E5209C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52280" y="914400"/>
          <a:ext cx="879156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79156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D8E4-1F26-4928-8A37-D43E97060A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6040" y="923760"/>
          <a:ext cx="87919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23760"/>
                    <a:ext cx="87919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1E74-15B2-48C7-A4D9-0B2A103ABC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6040" y="923760"/>
          <a:ext cx="87919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23760"/>
                    <a:ext cx="87919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83A5-F2A7-422A-A87B-81137068AF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907920"/>
          <a:ext cx="879156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79156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6D68B-E308-46ED-86B4-8727C76592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6040" y="923760"/>
          <a:ext cx="87919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23760"/>
                    <a:ext cx="87919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7AA6-C7F5-4FF3-917D-0EB2287639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6040" y="923760"/>
          <a:ext cx="87919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23760"/>
                    <a:ext cx="87919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4B64-2B8C-408C-A70E-BEF5EDAE3C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2520" y="927000"/>
          <a:ext cx="8729640" cy="447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927000"/>
                    <a:ext cx="872964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4D66-841B-4EAA-8FC0-A7354DF45A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76040" y="923760"/>
          <a:ext cx="87919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23760"/>
                    <a:ext cx="87919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9BBB-2F43-4929-8245-14287A2759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6040" y="923760"/>
          <a:ext cx="87919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23760"/>
                    <a:ext cx="87919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70DF-3987-4958-A709-F6817FD14C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равнение отдельных демографических показателей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542C-163F-44C4-AD80-3C949F42C6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907920"/>
          <a:ext cx="879156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79156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CFDD-49A7-4312-A006-BA2949B6B3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76040" y="923760"/>
          <a:ext cx="87919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23760"/>
                    <a:ext cx="87919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55EE-4AB9-43F8-80DC-DCB00B8971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1880" cy="61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CD7C-168F-47A1-8BDE-3BE556B546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Исчерпанная рождаемость в когорте женщин, рожденных в 19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30-1965,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 отдельных странах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3840" y="990720"/>
          <a:ext cx="9020160" cy="55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990720"/>
                    <a:ext cx="902016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47D3-4E7B-4DB4-92C3-8B482ABBB9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Распределение числа женщин (%) в соответствии с количеством рожденных ими детей (исчерпанная рождаемость в когорте женщин, рожденных с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1900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до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1960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1690560"/>
            <a:ext cx="8161200" cy="4375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629320"/>
            <a:ext cx="816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191200"/>
            <a:ext cx="816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4753080"/>
            <a:ext cx="816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314960"/>
            <a:ext cx="816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3878280"/>
            <a:ext cx="816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3440160"/>
            <a:ext cx="816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003480"/>
            <a:ext cx="816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565360"/>
            <a:ext cx="816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128680"/>
            <a:ext cx="816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690560"/>
            <a:ext cx="816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690560"/>
            <a:ext cx="8161200" cy="43754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5065560"/>
            <a:ext cx="8161200" cy="1000440"/>
          </a:xfrm>
          <a:custGeom>
            <a:avLst/>
            <a:gdLst/>
            <a:ahLst/>
            <a:rect l="l" t="t" r="r" b="b"/>
            <a:pathLst>
              <a:path w="5141" h="630">
                <a:moveTo>
                  <a:pt x="0" y="630"/>
                </a:moveTo>
                <a:lnTo>
                  <a:pt x="0" y="0"/>
                </a:lnTo>
                <a:lnTo>
                  <a:pt x="85" y="1"/>
                </a:lnTo>
                <a:lnTo>
                  <a:pt x="172" y="1"/>
                </a:lnTo>
                <a:lnTo>
                  <a:pt x="257" y="4"/>
                </a:lnTo>
                <a:lnTo>
                  <a:pt x="343" y="11"/>
                </a:lnTo>
                <a:lnTo>
                  <a:pt x="428" y="18"/>
                </a:lnTo>
                <a:lnTo>
                  <a:pt x="515" y="26"/>
                </a:lnTo>
                <a:lnTo>
                  <a:pt x="600" y="35"/>
                </a:lnTo>
                <a:lnTo>
                  <a:pt x="685" y="46"/>
                </a:lnTo>
                <a:lnTo>
                  <a:pt x="771" y="57"/>
                </a:lnTo>
                <a:lnTo>
                  <a:pt x="857" y="70"/>
                </a:lnTo>
                <a:lnTo>
                  <a:pt x="943" y="83"/>
                </a:lnTo>
                <a:lnTo>
                  <a:pt x="1028" y="95"/>
                </a:lnTo>
                <a:lnTo>
                  <a:pt x="1114" y="102"/>
                </a:lnTo>
                <a:lnTo>
                  <a:pt x="1200" y="106"/>
                </a:lnTo>
                <a:lnTo>
                  <a:pt x="1286" y="108"/>
                </a:lnTo>
                <a:lnTo>
                  <a:pt x="1371" y="116"/>
                </a:lnTo>
                <a:lnTo>
                  <a:pt x="1456" y="130"/>
                </a:lnTo>
                <a:lnTo>
                  <a:pt x="1543" y="141"/>
                </a:lnTo>
                <a:lnTo>
                  <a:pt x="1628" y="145"/>
                </a:lnTo>
                <a:lnTo>
                  <a:pt x="1714" y="147"/>
                </a:lnTo>
                <a:lnTo>
                  <a:pt x="1799" y="152"/>
                </a:lnTo>
                <a:lnTo>
                  <a:pt x="1886" y="163"/>
                </a:lnTo>
                <a:lnTo>
                  <a:pt x="1971" y="175"/>
                </a:lnTo>
                <a:lnTo>
                  <a:pt x="2056" y="179"/>
                </a:lnTo>
                <a:lnTo>
                  <a:pt x="2142" y="190"/>
                </a:lnTo>
                <a:lnTo>
                  <a:pt x="2228" y="204"/>
                </a:lnTo>
                <a:lnTo>
                  <a:pt x="2314" y="226"/>
                </a:lnTo>
                <a:lnTo>
                  <a:pt x="2399" y="239"/>
                </a:lnTo>
                <a:lnTo>
                  <a:pt x="2485" y="253"/>
                </a:lnTo>
                <a:lnTo>
                  <a:pt x="2571" y="271"/>
                </a:lnTo>
                <a:lnTo>
                  <a:pt x="2656" y="278"/>
                </a:lnTo>
                <a:lnTo>
                  <a:pt x="2742" y="290"/>
                </a:lnTo>
                <a:lnTo>
                  <a:pt x="2827" y="302"/>
                </a:lnTo>
                <a:lnTo>
                  <a:pt x="2914" y="323"/>
                </a:lnTo>
                <a:lnTo>
                  <a:pt x="2999" y="337"/>
                </a:lnTo>
                <a:lnTo>
                  <a:pt x="3085" y="342"/>
                </a:lnTo>
                <a:lnTo>
                  <a:pt x="3170" y="348"/>
                </a:lnTo>
                <a:lnTo>
                  <a:pt x="3256" y="347"/>
                </a:lnTo>
                <a:lnTo>
                  <a:pt x="3342" y="346"/>
                </a:lnTo>
                <a:lnTo>
                  <a:pt x="3427" y="344"/>
                </a:lnTo>
                <a:lnTo>
                  <a:pt x="3513" y="346"/>
                </a:lnTo>
                <a:lnTo>
                  <a:pt x="3599" y="355"/>
                </a:lnTo>
                <a:lnTo>
                  <a:pt x="3685" y="363"/>
                </a:lnTo>
                <a:lnTo>
                  <a:pt x="3770" y="370"/>
                </a:lnTo>
                <a:lnTo>
                  <a:pt x="3856" y="371"/>
                </a:lnTo>
                <a:lnTo>
                  <a:pt x="3942" y="366"/>
                </a:lnTo>
                <a:lnTo>
                  <a:pt x="4027" y="360"/>
                </a:lnTo>
                <a:lnTo>
                  <a:pt x="4113" y="359"/>
                </a:lnTo>
                <a:lnTo>
                  <a:pt x="4198" y="360"/>
                </a:lnTo>
                <a:lnTo>
                  <a:pt x="4285" y="359"/>
                </a:lnTo>
                <a:lnTo>
                  <a:pt x="4370" y="358"/>
                </a:lnTo>
                <a:lnTo>
                  <a:pt x="4456" y="356"/>
                </a:lnTo>
                <a:lnTo>
                  <a:pt x="4541" y="347"/>
                </a:lnTo>
                <a:lnTo>
                  <a:pt x="4627" y="338"/>
                </a:lnTo>
                <a:lnTo>
                  <a:pt x="4713" y="342"/>
                </a:lnTo>
                <a:lnTo>
                  <a:pt x="4798" y="354"/>
                </a:lnTo>
                <a:lnTo>
                  <a:pt x="4884" y="366"/>
                </a:lnTo>
                <a:lnTo>
                  <a:pt x="4970" y="363"/>
                </a:lnTo>
                <a:lnTo>
                  <a:pt x="5056" y="356"/>
                </a:lnTo>
                <a:lnTo>
                  <a:pt x="5141" y="347"/>
                </a:lnTo>
                <a:lnTo>
                  <a:pt x="5141" y="630"/>
                </a:lnTo>
                <a:lnTo>
                  <a:pt x="5056" y="630"/>
                </a:lnTo>
                <a:lnTo>
                  <a:pt x="4970" y="630"/>
                </a:lnTo>
                <a:lnTo>
                  <a:pt x="4884" y="630"/>
                </a:lnTo>
                <a:lnTo>
                  <a:pt x="4798" y="630"/>
                </a:lnTo>
                <a:lnTo>
                  <a:pt x="4713" y="630"/>
                </a:lnTo>
                <a:lnTo>
                  <a:pt x="4627" y="630"/>
                </a:lnTo>
                <a:lnTo>
                  <a:pt x="4541" y="630"/>
                </a:lnTo>
                <a:lnTo>
                  <a:pt x="4456" y="630"/>
                </a:lnTo>
                <a:lnTo>
                  <a:pt x="4370" y="630"/>
                </a:lnTo>
                <a:lnTo>
                  <a:pt x="4285" y="630"/>
                </a:lnTo>
                <a:lnTo>
                  <a:pt x="4198" y="630"/>
                </a:lnTo>
                <a:lnTo>
                  <a:pt x="4113" y="630"/>
                </a:lnTo>
                <a:lnTo>
                  <a:pt x="4027" y="630"/>
                </a:lnTo>
                <a:lnTo>
                  <a:pt x="3942" y="630"/>
                </a:lnTo>
                <a:lnTo>
                  <a:pt x="3856" y="630"/>
                </a:lnTo>
                <a:lnTo>
                  <a:pt x="3770" y="630"/>
                </a:lnTo>
                <a:lnTo>
                  <a:pt x="3685" y="630"/>
                </a:lnTo>
                <a:lnTo>
                  <a:pt x="3599" y="630"/>
                </a:lnTo>
                <a:lnTo>
                  <a:pt x="3513" y="630"/>
                </a:lnTo>
                <a:lnTo>
                  <a:pt x="3427" y="630"/>
                </a:lnTo>
                <a:lnTo>
                  <a:pt x="3342" y="630"/>
                </a:lnTo>
                <a:lnTo>
                  <a:pt x="3256" y="630"/>
                </a:lnTo>
                <a:lnTo>
                  <a:pt x="3170" y="630"/>
                </a:lnTo>
                <a:lnTo>
                  <a:pt x="3085" y="630"/>
                </a:lnTo>
                <a:lnTo>
                  <a:pt x="2999" y="630"/>
                </a:lnTo>
                <a:lnTo>
                  <a:pt x="2914" y="630"/>
                </a:lnTo>
                <a:lnTo>
                  <a:pt x="2827" y="630"/>
                </a:lnTo>
                <a:lnTo>
                  <a:pt x="2742" y="630"/>
                </a:lnTo>
                <a:lnTo>
                  <a:pt x="2656" y="630"/>
                </a:lnTo>
                <a:lnTo>
                  <a:pt x="2571" y="630"/>
                </a:lnTo>
                <a:lnTo>
                  <a:pt x="2485" y="630"/>
                </a:lnTo>
                <a:lnTo>
                  <a:pt x="2399" y="630"/>
                </a:lnTo>
                <a:lnTo>
                  <a:pt x="2314" y="630"/>
                </a:lnTo>
                <a:lnTo>
                  <a:pt x="2228" y="630"/>
                </a:lnTo>
                <a:lnTo>
                  <a:pt x="2142" y="630"/>
                </a:lnTo>
                <a:lnTo>
                  <a:pt x="2056" y="630"/>
                </a:lnTo>
                <a:lnTo>
                  <a:pt x="1971" y="630"/>
                </a:lnTo>
                <a:lnTo>
                  <a:pt x="1886" y="630"/>
                </a:lnTo>
                <a:lnTo>
                  <a:pt x="1799" y="630"/>
                </a:lnTo>
                <a:lnTo>
                  <a:pt x="1714" y="630"/>
                </a:lnTo>
                <a:lnTo>
                  <a:pt x="1628" y="630"/>
                </a:lnTo>
                <a:lnTo>
                  <a:pt x="1543" y="630"/>
                </a:lnTo>
                <a:lnTo>
                  <a:pt x="1456" y="630"/>
                </a:lnTo>
                <a:lnTo>
                  <a:pt x="1371" y="630"/>
                </a:lnTo>
                <a:lnTo>
                  <a:pt x="1286" y="630"/>
                </a:lnTo>
                <a:lnTo>
                  <a:pt x="1200" y="630"/>
                </a:lnTo>
                <a:lnTo>
                  <a:pt x="1114" y="630"/>
                </a:lnTo>
                <a:lnTo>
                  <a:pt x="1028" y="630"/>
                </a:lnTo>
                <a:lnTo>
                  <a:pt x="943" y="630"/>
                </a:lnTo>
                <a:lnTo>
                  <a:pt x="857" y="630"/>
                </a:lnTo>
                <a:lnTo>
                  <a:pt x="771" y="630"/>
                </a:lnTo>
                <a:lnTo>
                  <a:pt x="685" y="630"/>
                </a:lnTo>
                <a:lnTo>
                  <a:pt x="600" y="630"/>
                </a:lnTo>
                <a:lnTo>
                  <a:pt x="515" y="630"/>
                </a:lnTo>
                <a:lnTo>
                  <a:pt x="428" y="630"/>
                </a:lnTo>
                <a:lnTo>
                  <a:pt x="343" y="630"/>
                </a:lnTo>
                <a:lnTo>
                  <a:pt x="257" y="630"/>
                </a:lnTo>
                <a:lnTo>
                  <a:pt x="172" y="630"/>
                </a:lnTo>
                <a:lnTo>
                  <a:pt x="85" y="630"/>
                </a:lnTo>
                <a:lnTo>
                  <a:pt x="0" y="6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4010040"/>
            <a:ext cx="8161200" cy="1644480"/>
          </a:xfrm>
          <a:custGeom>
            <a:avLst/>
            <a:gdLst/>
            <a:ahLst/>
            <a:rect l="l" t="t" r="r" b="b"/>
            <a:pathLst>
              <a:path w="5141" h="1036">
                <a:moveTo>
                  <a:pt x="0" y="665"/>
                </a:moveTo>
                <a:lnTo>
                  <a:pt x="0" y="0"/>
                </a:lnTo>
                <a:lnTo>
                  <a:pt x="85" y="2"/>
                </a:lnTo>
                <a:lnTo>
                  <a:pt x="172" y="7"/>
                </a:lnTo>
                <a:lnTo>
                  <a:pt x="257" y="13"/>
                </a:lnTo>
                <a:lnTo>
                  <a:pt x="343" y="23"/>
                </a:lnTo>
                <a:lnTo>
                  <a:pt x="428" y="33"/>
                </a:lnTo>
                <a:lnTo>
                  <a:pt x="515" y="43"/>
                </a:lnTo>
                <a:lnTo>
                  <a:pt x="600" y="58"/>
                </a:lnTo>
                <a:lnTo>
                  <a:pt x="685" y="75"/>
                </a:lnTo>
                <a:lnTo>
                  <a:pt x="771" y="95"/>
                </a:lnTo>
                <a:lnTo>
                  <a:pt x="857" y="119"/>
                </a:lnTo>
                <a:lnTo>
                  <a:pt x="943" y="143"/>
                </a:lnTo>
                <a:lnTo>
                  <a:pt x="1028" y="164"/>
                </a:lnTo>
                <a:lnTo>
                  <a:pt x="1114" y="181"/>
                </a:lnTo>
                <a:lnTo>
                  <a:pt x="1200" y="195"/>
                </a:lnTo>
                <a:lnTo>
                  <a:pt x="1286" y="210"/>
                </a:lnTo>
                <a:lnTo>
                  <a:pt x="1371" y="227"/>
                </a:lnTo>
                <a:lnTo>
                  <a:pt x="1456" y="250"/>
                </a:lnTo>
                <a:lnTo>
                  <a:pt x="1543" y="266"/>
                </a:lnTo>
                <a:lnTo>
                  <a:pt x="1628" y="276"/>
                </a:lnTo>
                <a:lnTo>
                  <a:pt x="1714" y="281"/>
                </a:lnTo>
                <a:lnTo>
                  <a:pt x="1799" y="295"/>
                </a:lnTo>
                <a:lnTo>
                  <a:pt x="1886" y="314"/>
                </a:lnTo>
                <a:lnTo>
                  <a:pt x="1971" y="335"/>
                </a:lnTo>
                <a:lnTo>
                  <a:pt x="2056" y="345"/>
                </a:lnTo>
                <a:lnTo>
                  <a:pt x="2142" y="359"/>
                </a:lnTo>
                <a:lnTo>
                  <a:pt x="2228" y="375"/>
                </a:lnTo>
                <a:lnTo>
                  <a:pt x="2314" y="398"/>
                </a:lnTo>
                <a:lnTo>
                  <a:pt x="2399" y="415"/>
                </a:lnTo>
                <a:lnTo>
                  <a:pt x="2485" y="433"/>
                </a:lnTo>
                <a:lnTo>
                  <a:pt x="2571" y="448"/>
                </a:lnTo>
                <a:lnTo>
                  <a:pt x="2656" y="460"/>
                </a:lnTo>
                <a:lnTo>
                  <a:pt x="2742" y="467"/>
                </a:lnTo>
                <a:lnTo>
                  <a:pt x="2827" y="485"/>
                </a:lnTo>
                <a:lnTo>
                  <a:pt x="2914" y="510"/>
                </a:lnTo>
                <a:lnTo>
                  <a:pt x="2999" y="528"/>
                </a:lnTo>
                <a:lnTo>
                  <a:pt x="3085" y="530"/>
                </a:lnTo>
                <a:lnTo>
                  <a:pt x="3170" y="525"/>
                </a:lnTo>
                <a:lnTo>
                  <a:pt x="3256" y="523"/>
                </a:lnTo>
                <a:lnTo>
                  <a:pt x="3342" y="521"/>
                </a:lnTo>
                <a:lnTo>
                  <a:pt x="3427" y="521"/>
                </a:lnTo>
                <a:lnTo>
                  <a:pt x="3513" y="518"/>
                </a:lnTo>
                <a:lnTo>
                  <a:pt x="3599" y="516"/>
                </a:lnTo>
                <a:lnTo>
                  <a:pt x="3685" y="510"/>
                </a:lnTo>
                <a:lnTo>
                  <a:pt x="3770" y="500"/>
                </a:lnTo>
                <a:lnTo>
                  <a:pt x="3856" y="488"/>
                </a:lnTo>
                <a:lnTo>
                  <a:pt x="3942" y="476"/>
                </a:lnTo>
                <a:lnTo>
                  <a:pt x="4027" y="474"/>
                </a:lnTo>
                <a:lnTo>
                  <a:pt x="4113" y="479"/>
                </a:lnTo>
                <a:lnTo>
                  <a:pt x="4198" y="478"/>
                </a:lnTo>
                <a:lnTo>
                  <a:pt x="4285" y="471"/>
                </a:lnTo>
                <a:lnTo>
                  <a:pt x="4370" y="458"/>
                </a:lnTo>
                <a:lnTo>
                  <a:pt x="4456" y="458"/>
                </a:lnTo>
                <a:lnTo>
                  <a:pt x="4541" y="465"/>
                </a:lnTo>
                <a:lnTo>
                  <a:pt x="4627" y="477"/>
                </a:lnTo>
                <a:lnTo>
                  <a:pt x="4713" y="485"/>
                </a:lnTo>
                <a:lnTo>
                  <a:pt x="4798" y="498"/>
                </a:lnTo>
                <a:lnTo>
                  <a:pt x="4884" y="500"/>
                </a:lnTo>
                <a:lnTo>
                  <a:pt x="4970" y="505"/>
                </a:lnTo>
                <a:lnTo>
                  <a:pt x="5056" y="508"/>
                </a:lnTo>
                <a:lnTo>
                  <a:pt x="5141" y="518"/>
                </a:lnTo>
                <a:lnTo>
                  <a:pt x="5141" y="1012"/>
                </a:lnTo>
                <a:lnTo>
                  <a:pt x="5056" y="1021"/>
                </a:lnTo>
                <a:lnTo>
                  <a:pt x="4970" y="1028"/>
                </a:lnTo>
                <a:lnTo>
                  <a:pt x="4884" y="1031"/>
                </a:lnTo>
                <a:lnTo>
                  <a:pt x="4798" y="1019"/>
                </a:lnTo>
                <a:lnTo>
                  <a:pt x="4713" y="1007"/>
                </a:lnTo>
                <a:lnTo>
                  <a:pt x="4627" y="1003"/>
                </a:lnTo>
                <a:lnTo>
                  <a:pt x="4541" y="1012"/>
                </a:lnTo>
                <a:lnTo>
                  <a:pt x="4456" y="1021"/>
                </a:lnTo>
                <a:lnTo>
                  <a:pt x="4370" y="1023"/>
                </a:lnTo>
                <a:lnTo>
                  <a:pt x="4285" y="1024"/>
                </a:lnTo>
                <a:lnTo>
                  <a:pt x="4198" y="1025"/>
                </a:lnTo>
                <a:lnTo>
                  <a:pt x="4113" y="1024"/>
                </a:lnTo>
                <a:lnTo>
                  <a:pt x="4027" y="1025"/>
                </a:lnTo>
                <a:lnTo>
                  <a:pt x="3942" y="1031"/>
                </a:lnTo>
                <a:lnTo>
                  <a:pt x="3856" y="1036"/>
                </a:lnTo>
                <a:lnTo>
                  <a:pt x="3770" y="1035"/>
                </a:lnTo>
                <a:lnTo>
                  <a:pt x="3685" y="1028"/>
                </a:lnTo>
                <a:lnTo>
                  <a:pt x="3599" y="1020"/>
                </a:lnTo>
                <a:lnTo>
                  <a:pt x="3513" y="1011"/>
                </a:lnTo>
                <a:lnTo>
                  <a:pt x="3427" y="1009"/>
                </a:lnTo>
                <a:lnTo>
                  <a:pt x="3342" y="1011"/>
                </a:lnTo>
                <a:lnTo>
                  <a:pt x="3256" y="1012"/>
                </a:lnTo>
                <a:lnTo>
                  <a:pt x="3170" y="1013"/>
                </a:lnTo>
                <a:lnTo>
                  <a:pt x="3085" y="1007"/>
                </a:lnTo>
                <a:lnTo>
                  <a:pt x="2999" y="1002"/>
                </a:lnTo>
                <a:lnTo>
                  <a:pt x="2914" y="988"/>
                </a:lnTo>
                <a:lnTo>
                  <a:pt x="2827" y="967"/>
                </a:lnTo>
                <a:lnTo>
                  <a:pt x="2742" y="955"/>
                </a:lnTo>
                <a:lnTo>
                  <a:pt x="2656" y="943"/>
                </a:lnTo>
                <a:lnTo>
                  <a:pt x="2571" y="936"/>
                </a:lnTo>
                <a:lnTo>
                  <a:pt x="2485" y="918"/>
                </a:lnTo>
                <a:lnTo>
                  <a:pt x="2399" y="904"/>
                </a:lnTo>
                <a:lnTo>
                  <a:pt x="2314" y="891"/>
                </a:lnTo>
                <a:lnTo>
                  <a:pt x="2228" y="869"/>
                </a:lnTo>
                <a:lnTo>
                  <a:pt x="2142" y="855"/>
                </a:lnTo>
                <a:lnTo>
                  <a:pt x="2056" y="844"/>
                </a:lnTo>
                <a:lnTo>
                  <a:pt x="1971" y="840"/>
                </a:lnTo>
                <a:lnTo>
                  <a:pt x="1886" y="828"/>
                </a:lnTo>
                <a:lnTo>
                  <a:pt x="1799" y="817"/>
                </a:lnTo>
                <a:lnTo>
                  <a:pt x="1714" y="812"/>
                </a:lnTo>
                <a:lnTo>
                  <a:pt x="1628" y="810"/>
                </a:lnTo>
                <a:lnTo>
                  <a:pt x="1543" y="806"/>
                </a:lnTo>
                <a:lnTo>
                  <a:pt x="1456" y="795"/>
                </a:lnTo>
                <a:lnTo>
                  <a:pt x="1371" y="781"/>
                </a:lnTo>
                <a:lnTo>
                  <a:pt x="1286" y="773"/>
                </a:lnTo>
                <a:lnTo>
                  <a:pt x="1200" y="771"/>
                </a:lnTo>
                <a:lnTo>
                  <a:pt x="1114" y="767"/>
                </a:lnTo>
                <a:lnTo>
                  <a:pt x="1028" y="760"/>
                </a:lnTo>
                <a:lnTo>
                  <a:pt x="943" y="748"/>
                </a:lnTo>
                <a:lnTo>
                  <a:pt x="857" y="735"/>
                </a:lnTo>
                <a:lnTo>
                  <a:pt x="771" y="722"/>
                </a:lnTo>
                <a:lnTo>
                  <a:pt x="685" y="711"/>
                </a:lnTo>
                <a:lnTo>
                  <a:pt x="600" y="700"/>
                </a:lnTo>
                <a:lnTo>
                  <a:pt x="515" y="691"/>
                </a:lnTo>
                <a:lnTo>
                  <a:pt x="428" y="683"/>
                </a:lnTo>
                <a:lnTo>
                  <a:pt x="343" y="676"/>
                </a:lnTo>
                <a:lnTo>
                  <a:pt x="257" y="669"/>
                </a:lnTo>
                <a:lnTo>
                  <a:pt x="172" y="666"/>
                </a:lnTo>
                <a:lnTo>
                  <a:pt x="85" y="666"/>
                </a:lnTo>
                <a:lnTo>
                  <a:pt x="0" y="665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4010040"/>
            <a:ext cx="8161200" cy="1644480"/>
          </a:xfrm>
          <a:custGeom>
            <a:avLst/>
            <a:gdLst/>
            <a:ahLst/>
            <a:rect l="l" t="t" r="r" b="b"/>
            <a:pathLst>
              <a:path w="5141" h="1036">
                <a:moveTo>
                  <a:pt x="0" y="665"/>
                </a:moveTo>
                <a:lnTo>
                  <a:pt x="0" y="0"/>
                </a:lnTo>
                <a:lnTo>
                  <a:pt x="85" y="2"/>
                </a:lnTo>
                <a:lnTo>
                  <a:pt x="172" y="7"/>
                </a:lnTo>
                <a:lnTo>
                  <a:pt x="257" y="13"/>
                </a:lnTo>
                <a:lnTo>
                  <a:pt x="343" y="23"/>
                </a:lnTo>
                <a:lnTo>
                  <a:pt x="428" y="33"/>
                </a:lnTo>
                <a:lnTo>
                  <a:pt x="515" y="43"/>
                </a:lnTo>
                <a:lnTo>
                  <a:pt x="600" y="58"/>
                </a:lnTo>
                <a:lnTo>
                  <a:pt x="685" y="75"/>
                </a:lnTo>
                <a:lnTo>
                  <a:pt x="771" y="95"/>
                </a:lnTo>
                <a:lnTo>
                  <a:pt x="857" y="119"/>
                </a:lnTo>
                <a:lnTo>
                  <a:pt x="943" y="143"/>
                </a:lnTo>
                <a:lnTo>
                  <a:pt x="1028" y="164"/>
                </a:lnTo>
                <a:lnTo>
                  <a:pt x="1114" y="181"/>
                </a:lnTo>
                <a:lnTo>
                  <a:pt x="1200" y="195"/>
                </a:lnTo>
                <a:lnTo>
                  <a:pt x="1286" y="210"/>
                </a:lnTo>
                <a:lnTo>
                  <a:pt x="1371" y="227"/>
                </a:lnTo>
                <a:lnTo>
                  <a:pt x="1456" y="250"/>
                </a:lnTo>
                <a:lnTo>
                  <a:pt x="1543" y="266"/>
                </a:lnTo>
                <a:lnTo>
                  <a:pt x="1628" y="276"/>
                </a:lnTo>
                <a:lnTo>
                  <a:pt x="1714" y="281"/>
                </a:lnTo>
                <a:lnTo>
                  <a:pt x="1799" y="295"/>
                </a:lnTo>
                <a:lnTo>
                  <a:pt x="1886" y="314"/>
                </a:lnTo>
                <a:lnTo>
                  <a:pt x="1971" y="335"/>
                </a:lnTo>
                <a:lnTo>
                  <a:pt x="2056" y="345"/>
                </a:lnTo>
                <a:lnTo>
                  <a:pt x="2142" y="359"/>
                </a:lnTo>
                <a:lnTo>
                  <a:pt x="2228" y="375"/>
                </a:lnTo>
                <a:lnTo>
                  <a:pt x="2314" y="398"/>
                </a:lnTo>
                <a:lnTo>
                  <a:pt x="2399" y="415"/>
                </a:lnTo>
                <a:lnTo>
                  <a:pt x="2485" y="433"/>
                </a:lnTo>
                <a:lnTo>
                  <a:pt x="2571" y="448"/>
                </a:lnTo>
                <a:lnTo>
                  <a:pt x="2656" y="460"/>
                </a:lnTo>
                <a:lnTo>
                  <a:pt x="2742" y="467"/>
                </a:lnTo>
                <a:lnTo>
                  <a:pt x="2827" y="485"/>
                </a:lnTo>
                <a:lnTo>
                  <a:pt x="2914" y="510"/>
                </a:lnTo>
                <a:lnTo>
                  <a:pt x="2999" y="528"/>
                </a:lnTo>
                <a:lnTo>
                  <a:pt x="3085" y="530"/>
                </a:lnTo>
                <a:lnTo>
                  <a:pt x="3170" y="525"/>
                </a:lnTo>
                <a:lnTo>
                  <a:pt x="3256" y="523"/>
                </a:lnTo>
                <a:lnTo>
                  <a:pt x="3342" y="521"/>
                </a:lnTo>
                <a:lnTo>
                  <a:pt x="3427" y="521"/>
                </a:lnTo>
                <a:lnTo>
                  <a:pt x="3513" y="518"/>
                </a:lnTo>
                <a:lnTo>
                  <a:pt x="3599" y="516"/>
                </a:lnTo>
                <a:lnTo>
                  <a:pt x="3685" y="510"/>
                </a:lnTo>
                <a:lnTo>
                  <a:pt x="3770" y="500"/>
                </a:lnTo>
                <a:lnTo>
                  <a:pt x="3856" y="488"/>
                </a:lnTo>
                <a:lnTo>
                  <a:pt x="3942" y="476"/>
                </a:lnTo>
                <a:lnTo>
                  <a:pt x="4027" y="474"/>
                </a:lnTo>
                <a:lnTo>
                  <a:pt x="4113" y="479"/>
                </a:lnTo>
                <a:lnTo>
                  <a:pt x="4198" y="478"/>
                </a:lnTo>
                <a:lnTo>
                  <a:pt x="4285" y="471"/>
                </a:lnTo>
                <a:lnTo>
                  <a:pt x="4370" y="458"/>
                </a:lnTo>
                <a:lnTo>
                  <a:pt x="4456" y="458"/>
                </a:lnTo>
                <a:lnTo>
                  <a:pt x="4541" y="465"/>
                </a:lnTo>
                <a:lnTo>
                  <a:pt x="4627" y="477"/>
                </a:lnTo>
                <a:lnTo>
                  <a:pt x="4713" y="485"/>
                </a:lnTo>
                <a:lnTo>
                  <a:pt x="4798" y="498"/>
                </a:lnTo>
                <a:lnTo>
                  <a:pt x="4884" y="500"/>
                </a:lnTo>
                <a:lnTo>
                  <a:pt x="4970" y="505"/>
                </a:lnTo>
                <a:lnTo>
                  <a:pt x="5056" y="508"/>
                </a:lnTo>
                <a:lnTo>
                  <a:pt x="5141" y="518"/>
                </a:lnTo>
                <a:lnTo>
                  <a:pt x="5141" y="1012"/>
                </a:lnTo>
                <a:lnTo>
                  <a:pt x="5056" y="1021"/>
                </a:lnTo>
                <a:lnTo>
                  <a:pt x="4970" y="1028"/>
                </a:lnTo>
                <a:lnTo>
                  <a:pt x="4884" y="1031"/>
                </a:lnTo>
                <a:lnTo>
                  <a:pt x="4798" y="1019"/>
                </a:lnTo>
                <a:lnTo>
                  <a:pt x="4713" y="1007"/>
                </a:lnTo>
                <a:lnTo>
                  <a:pt x="4627" y="1003"/>
                </a:lnTo>
                <a:lnTo>
                  <a:pt x="4541" y="1012"/>
                </a:lnTo>
                <a:lnTo>
                  <a:pt x="4456" y="1021"/>
                </a:lnTo>
                <a:lnTo>
                  <a:pt x="4370" y="1023"/>
                </a:lnTo>
                <a:lnTo>
                  <a:pt x="4285" y="1024"/>
                </a:lnTo>
                <a:lnTo>
                  <a:pt x="4198" y="1025"/>
                </a:lnTo>
                <a:lnTo>
                  <a:pt x="4113" y="1024"/>
                </a:lnTo>
                <a:lnTo>
                  <a:pt x="4027" y="1025"/>
                </a:lnTo>
                <a:lnTo>
                  <a:pt x="3942" y="1031"/>
                </a:lnTo>
                <a:lnTo>
                  <a:pt x="3856" y="1036"/>
                </a:lnTo>
                <a:lnTo>
                  <a:pt x="3770" y="1035"/>
                </a:lnTo>
                <a:lnTo>
                  <a:pt x="3685" y="1028"/>
                </a:lnTo>
                <a:lnTo>
                  <a:pt x="3599" y="1020"/>
                </a:lnTo>
                <a:lnTo>
                  <a:pt x="3513" y="1011"/>
                </a:lnTo>
                <a:lnTo>
                  <a:pt x="3427" y="1009"/>
                </a:lnTo>
                <a:lnTo>
                  <a:pt x="3342" y="1011"/>
                </a:lnTo>
                <a:lnTo>
                  <a:pt x="3256" y="1012"/>
                </a:lnTo>
                <a:lnTo>
                  <a:pt x="3170" y="1013"/>
                </a:lnTo>
                <a:lnTo>
                  <a:pt x="3085" y="1007"/>
                </a:lnTo>
                <a:lnTo>
                  <a:pt x="2999" y="1002"/>
                </a:lnTo>
                <a:lnTo>
                  <a:pt x="2914" y="988"/>
                </a:lnTo>
                <a:lnTo>
                  <a:pt x="2827" y="967"/>
                </a:lnTo>
                <a:lnTo>
                  <a:pt x="2742" y="955"/>
                </a:lnTo>
                <a:lnTo>
                  <a:pt x="2656" y="943"/>
                </a:lnTo>
                <a:lnTo>
                  <a:pt x="2571" y="936"/>
                </a:lnTo>
                <a:lnTo>
                  <a:pt x="2485" y="918"/>
                </a:lnTo>
                <a:lnTo>
                  <a:pt x="2399" y="904"/>
                </a:lnTo>
                <a:lnTo>
                  <a:pt x="2314" y="891"/>
                </a:lnTo>
                <a:lnTo>
                  <a:pt x="2228" y="869"/>
                </a:lnTo>
                <a:lnTo>
                  <a:pt x="2142" y="855"/>
                </a:lnTo>
                <a:lnTo>
                  <a:pt x="2056" y="844"/>
                </a:lnTo>
                <a:lnTo>
                  <a:pt x="1971" y="840"/>
                </a:lnTo>
                <a:lnTo>
                  <a:pt x="1886" y="828"/>
                </a:lnTo>
                <a:lnTo>
                  <a:pt x="1799" y="817"/>
                </a:lnTo>
                <a:lnTo>
                  <a:pt x="1714" y="812"/>
                </a:lnTo>
                <a:lnTo>
                  <a:pt x="1628" y="810"/>
                </a:lnTo>
                <a:lnTo>
                  <a:pt x="1543" y="806"/>
                </a:lnTo>
                <a:lnTo>
                  <a:pt x="1456" y="795"/>
                </a:lnTo>
                <a:lnTo>
                  <a:pt x="1371" y="781"/>
                </a:lnTo>
                <a:lnTo>
                  <a:pt x="1286" y="773"/>
                </a:lnTo>
                <a:lnTo>
                  <a:pt x="1200" y="771"/>
                </a:lnTo>
                <a:lnTo>
                  <a:pt x="1114" y="767"/>
                </a:lnTo>
                <a:lnTo>
                  <a:pt x="1028" y="760"/>
                </a:lnTo>
                <a:lnTo>
                  <a:pt x="943" y="748"/>
                </a:lnTo>
                <a:lnTo>
                  <a:pt x="857" y="735"/>
                </a:lnTo>
                <a:lnTo>
                  <a:pt x="771" y="722"/>
                </a:lnTo>
                <a:lnTo>
                  <a:pt x="685" y="711"/>
                </a:lnTo>
                <a:lnTo>
                  <a:pt x="600" y="700"/>
                </a:lnTo>
                <a:lnTo>
                  <a:pt x="515" y="691"/>
                </a:lnTo>
                <a:lnTo>
                  <a:pt x="428" y="683"/>
                </a:lnTo>
                <a:lnTo>
                  <a:pt x="343" y="676"/>
                </a:lnTo>
                <a:lnTo>
                  <a:pt x="257" y="669"/>
                </a:lnTo>
                <a:lnTo>
                  <a:pt x="172" y="666"/>
                </a:lnTo>
                <a:lnTo>
                  <a:pt x="85" y="666"/>
                </a:lnTo>
                <a:lnTo>
                  <a:pt x="0" y="6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014640"/>
            <a:ext cx="8161200" cy="1836720"/>
          </a:xfrm>
          <a:custGeom>
            <a:avLst/>
            <a:gdLst/>
            <a:ahLst/>
            <a:rect l="l" t="t" r="r" b="b"/>
            <a:pathLst>
              <a:path w="5141" h="1157">
                <a:moveTo>
                  <a:pt x="0" y="627"/>
                </a:moveTo>
                <a:lnTo>
                  <a:pt x="0" y="31"/>
                </a:lnTo>
                <a:lnTo>
                  <a:pt x="85" y="33"/>
                </a:lnTo>
                <a:lnTo>
                  <a:pt x="172" y="39"/>
                </a:lnTo>
                <a:lnTo>
                  <a:pt x="257" y="47"/>
                </a:lnTo>
                <a:lnTo>
                  <a:pt x="343" y="57"/>
                </a:lnTo>
                <a:lnTo>
                  <a:pt x="428" y="68"/>
                </a:lnTo>
                <a:lnTo>
                  <a:pt x="515" y="79"/>
                </a:lnTo>
                <a:lnTo>
                  <a:pt x="600" y="93"/>
                </a:lnTo>
                <a:lnTo>
                  <a:pt x="685" y="109"/>
                </a:lnTo>
                <a:lnTo>
                  <a:pt x="771" y="128"/>
                </a:lnTo>
                <a:lnTo>
                  <a:pt x="857" y="146"/>
                </a:lnTo>
                <a:lnTo>
                  <a:pt x="943" y="164"/>
                </a:lnTo>
                <a:lnTo>
                  <a:pt x="1028" y="181"/>
                </a:lnTo>
                <a:lnTo>
                  <a:pt x="1114" y="195"/>
                </a:lnTo>
                <a:lnTo>
                  <a:pt x="1200" y="210"/>
                </a:lnTo>
                <a:lnTo>
                  <a:pt x="1286" y="226"/>
                </a:lnTo>
                <a:lnTo>
                  <a:pt x="1371" y="243"/>
                </a:lnTo>
                <a:lnTo>
                  <a:pt x="1456" y="264"/>
                </a:lnTo>
                <a:lnTo>
                  <a:pt x="1543" y="279"/>
                </a:lnTo>
                <a:lnTo>
                  <a:pt x="1628" y="285"/>
                </a:lnTo>
                <a:lnTo>
                  <a:pt x="1714" y="284"/>
                </a:lnTo>
                <a:lnTo>
                  <a:pt x="1799" y="295"/>
                </a:lnTo>
                <a:lnTo>
                  <a:pt x="1886" y="312"/>
                </a:lnTo>
                <a:lnTo>
                  <a:pt x="1971" y="332"/>
                </a:lnTo>
                <a:lnTo>
                  <a:pt x="2056" y="340"/>
                </a:lnTo>
                <a:lnTo>
                  <a:pt x="2142" y="352"/>
                </a:lnTo>
                <a:lnTo>
                  <a:pt x="2228" y="360"/>
                </a:lnTo>
                <a:lnTo>
                  <a:pt x="2314" y="375"/>
                </a:lnTo>
                <a:lnTo>
                  <a:pt x="2399" y="384"/>
                </a:lnTo>
                <a:lnTo>
                  <a:pt x="2485" y="392"/>
                </a:lnTo>
                <a:lnTo>
                  <a:pt x="2571" y="386"/>
                </a:lnTo>
                <a:lnTo>
                  <a:pt x="2656" y="379"/>
                </a:lnTo>
                <a:lnTo>
                  <a:pt x="2742" y="368"/>
                </a:lnTo>
                <a:lnTo>
                  <a:pt x="2827" y="373"/>
                </a:lnTo>
                <a:lnTo>
                  <a:pt x="2914" y="372"/>
                </a:lnTo>
                <a:lnTo>
                  <a:pt x="2999" y="370"/>
                </a:lnTo>
                <a:lnTo>
                  <a:pt x="3085" y="354"/>
                </a:lnTo>
                <a:lnTo>
                  <a:pt x="3170" y="336"/>
                </a:lnTo>
                <a:lnTo>
                  <a:pt x="3256" y="312"/>
                </a:lnTo>
                <a:lnTo>
                  <a:pt x="3342" y="286"/>
                </a:lnTo>
                <a:lnTo>
                  <a:pt x="3427" y="253"/>
                </a:lnTo>
                <a:lnTo>
                  <a:pt x="3513" y="212"/>
                </a:lnTo>
                <a:lnTo>
                  <a:pt x="3599" y="172"/>
                </a:lnTo>
                <a:lnTo>
                  <a:pt x="3685" y="145"/>
                </a:lnTo>
                <a:lnTo>
                  <a:pt x="3770" y="115"/>
                </a:lnTo>
                <a:lnTo>
                  <a:pt x="3856" y="90"/>
                </a:lnTo>
                <a:lnTo>
                  <a:pt x="3942" y="61"/>
                </a:lnTo>
                <a:lnTo>
                  <a:pt x="4027" y="43"/>
                </a:lnTo>
                <a:lnTo>
                  <a:pt x="4113" y="25"/>
                </a:lnTo>
                <a:lnTo>
                  <a:pt x="4198" y="8"/>
                </a:lnTo>
                <a:lnTo>
                  <a:pt x="4285" y="0"/>
                </a:lnTo>
                <a:lnTo>
                  <a:pt x="4370" y="1"/>
                </a:lnTo>
                <a:lnTo>
                  <a:pt x="4456" y="11"/>
                </a:lnTo>
                <a:lnTo>
                  <a:pt x="4541" y="21"/>
                </a:lnTo>
                <a:lnTo>
                  <a:pt x="4627" y="32"/>
                </a:lnTo>
                <a:lnTo>
                  <a:pt x="4713" y="43"/>
                </a:lnTo>
                <a:lnTo>
                  <a:pt x="4798" y="49"/>
                </a:lnTo>
                <a:lnTo>
                  <a:pt x="4884" y="48"/>
                </a:lnTo>
                <a:lnTo>
                  <a:pt x="4970" y="44"/>
                </a:lnTo>
                <a:lnTo>
                  <a:pt x="5056" y="41"/>
                </a:lnTo>
                <a:lnTo>
                  <a:pt x="5141" y="39"/>
                </a:lnTo>
                <a:lnTo>
                  <a:pt x="5141" y="1145"/>
                </a:lnTo>
                <a:lnTo>
                  <a:pt x="5056" y="1135"/>
                </a:lnTo>
                <a:lnTo>
                  <a:pt x="4970" y="1132"/>
                </a:lnTo>
                <a:lnTo>
                  <a:pt x="4884" y="1127"/>
                </a:lnTo>
                <a:lnTo>
                  <a:pt x="4798" y="1125"/>
                </a:lnTo>
                <a:lnTo>
                  <a:pt x="4713" y="1112"/>
                </a:lnTo>
                <a:lnTo>
                  <a:pt x="4627" y="1104"/>
                </a:lnTo>
                <a:lnTo>
                  <a:pt x="4541" y="1092"/>
                </a:lnTo>
                <a:lnTo>
                  <a:pt x="4456" y="1085"/>
                </a:lnTo>
                <a:lnTo>
                  <a:pt x="4370" y="1085"/>
                </a:lnTo>
                <a:lnTo>
                  <a:pt x="4285" y="1098"/>
                </a:lnTo>
                <a:lnTo>
                  <a:pt x="4198" y="1105"/>
                </a:lnTo>
                <a:lnTo>
                  <a:pt x="4113" y="1106"/>
                </a:lnTo>
                <a:lnTo>
                  <a:pt x="4027" y="1101"/>
                </a:lnTo>
                <a:lnTo>
                  <a:pt x="3942" y="1103"/>
                </a:lnTo>
                <a:lnTo>
                  <a:pt x="3856" y="1115"/>
                </a:lnTo>
                <a:lnTo>
                  <a:pt x="3770" y="1127"/>
                </a:lnTo>
                <a:lnTo>
                  <a:pt x="3685" y="1137"/>
                </a:lnTo>
                <a:lnTo>
                  <a:pt x="3599" y="1143"/>
                </a:lnTo>
                <a:lnTo>
                  <a:pt x="3513" y="1145"/>
                </a:lnTo>
                <a:lnTo>
                  <a:pt x="3427" y="1148"/>
                </a:lnTo>
                <a:lnTo>
                  <a:pt x="3342" y="1148"/>
                </a:lnTo>
                <a:lnTo>
                  <a:pt x="3256" y="1150"/>
                </a:lnTo>
                <a:lnTo>
                  <a:pt x="3170" y="1152"/>
                </a:lnTo>
                <a:lnTo>
                  <a:pt x="3085" y="1157"/>
                </a:lnTo>
                <a:lnTo>
                  <a:pt x="2999" y="1155"/>
                </a:lnTo>
                <a:lnTo>
                  <a:pt x="2914" y="1137"/>
                </a:lnTo>
                <a:lnTo>
                  <a:pt x="2827" y="1112"/>
                </a:lnTo>
                <a:lnTo>
                  <a:pt x="2742" y="1094"/>
                </a:lnTo>
                <a:lnTo>
                  <a:pt x="2656" y="1087"/>
                </a:lnTo>
                <a:lnTo>
                  <a:pt x="2571" y="1075"/>
                </a:lnTo>
                <a:lnTo>
                  <a:pt x="2485" y="1060"/>
                </a:lnTo>
                <a:lnTo>
                  <a:pt x="2399" y="1042"/>
                </a:lnTo>
                <a:lnTo>
                  <a:pt x="2314" y="1025"/>
                </a:lnTo>
                <a:lnTo>
                  <a:pt x="2228" y="1002"/>
                </a:lnTo>
                <a:lnTo>
                  <a:pt x="2142" y="986"/>
                </a:lnTo>
                <a:lnTo>
                  <a:pt x="2056" y="972"/>
                </a:lnTo>
                <a:lnTo>
                  <a:pt x="1971" y="962"/>
                </a:lnTo>
                <a:lnTo>
                  <a:pt x="1886" y="941"/>
                </a:lnTo>
                <a:lnTo>
                  <a:pt x="1799" y="922"/>
                </a:lnTo>
                <a:lnTo>
                  <a:pt x="1714" y="908"/>
                </a:lnTo>
                <a:lnTo>
                  <a:pt x="1628" y="903"/>
                </a:lnTo>
                <a:lnTo>
                  <a:pt x="1543" y="893"/>
                </a:lnTo>
                <a:lnTo>
                  <a:pt x="1456" y="877"/>
                </a:lnTo>
                <a:lnTo>
                  <a:pt x="1371" y="854"/>
                </a:lnTo>
                <a:lnTo>
                  <a:pt x="1286" y="837"/>
                </a:lnTo>
                <a:lnTo>
                  <a:pt x="1200" y="822"/>
                </a:lnTo>
                <a:lnTo>
                  <a:pt x="1114" y="808"/>
                </a:lnTo>
                <a:lnTo>
                  <a:pt x="1028" y="791"/>
                </a:lnTo>
                <a:lnTo>
                  <a:pt x="943" y="770"/>
                </a:lnTo>
                <a:lnTo>
                  <a:pt x="857" y="746"/>
                </a:lnTo>
                <a:lnTo>
                  <a:pt x="771" y="722"/>
                </a:lnTo>
                <a:lnTo>
                  <a:pt x="685" y="702"/>
                </a:lnTo>
                <a:lnTo>
                  <a:pt x="600" y="685"/>
                </a:lnTo>
                <a:lnTo>
                  <a:pt x="515" y="670"/>
                </a:lnTo>
                <a:lnTo>
                  <a:pt x="428" y="660"/>
                </a:lnTo>
                <a:lnTo>
                  <a:pt x="343" y="650"/>
                </a:lnTo>
                <a:lnTo>
                  <a:pt x="257" y="640"/>
                </a:lnTo>
                <a:lnTo>
                  <a:pt x="172" y="634"/>
                </a:lnTo>
                <a:lnTo>
                  <a:pt x="85" y="629"/>
                </a:lnTo>
                <a:lnTo>
                  <a:pt x="0" y="6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014640"/>
            <a:ext cx="8161200" cy="1836720"/>
          </a:xfrm>
          <a:custGeom>
            <a:avLst/>
            <a:gdLst/>
            <a:ahLst/>
            <a:rect l="l" t="t" r="r" b="b"/>
            <a:pathLst>
              <a:path w="5141" h="1157">
                <a:moveTo>
                  <a:pt x="0" y="627"/>
                </a:moveTo>
                <a:lnTo>
                  <a:pt x="0" y="31"/>
                </a:lnTo>
                <a:lnTo>
                  <a:pt x="85" y="33"/>
                </a:lnTo>
                <a:lnTo>
                  <a:pt x="172" y="39"/>
                </a:lnTo>
                <a:lnTo>
                  <a:pt x="257" y="47"/>
                </a:lnTo>
                <a:lnTo>
                  <a:pt x="343" y="57"/>
                </a:lnTo>
                <a:lnTo>
                  <a:pt x="428" y="68"/>
                </a:lnTo>
                <a:lnTo>
                  <a:pt x="515" y="79"/>
                </a:lnTo>
                <a:lnTo>
                  <a:pt x="600" y="93"/>
                </a:lnTo>
                <a:lnTo>
                  <a:pt x="685" y="109"/>
                </a:lnTo>
                <a:lnTo>
                  <a:pt x="771" y="128"/>
                </a:lnTo>
                <a:lnTo>
                  <a:pt x="857" y="146"/>
                </a:lnTo>
                <a:lnTo>
                  <a:pt x="943" y="164"/>
                </a:lnTo>
                <a:lnTo>
                  <a:pt x="1028" y="181"/>
                </a:lnTo>
                <a:lnTo>
                  <a:pt x="1114" y="195"/>
                </a:lnTo>
                <a:lnTo>
                  <a:pt x="1200" y="210"/>
                </a:lnTo>
                <a:lnTo>
                  <a:pt x="1286" y="226"/>
                </a:lnTo>
                <a:lnTo>
                  <a:pt x="1371" y="243"/>
                </a:lnTo>
                <a:lnTo>
                  <a:pt x="1456" y="264"/>
                </a:lnTo>
                <a:lnTo>
                  <a:pt x="1543" y="279"/>
                </a:lnTo>
                <a:lnTo>
                  <a:pt x="1628" y="285"/>
                </a:lnTo>
                <a:lnTo>
                  <a:pt x="1714" y="284"/>
                </a:lnTo>
                <a:lnTo>
                  <a:pt x="1799" y="295"/>
                </a:lnTo>
                <a:lnTo>
                  <a:pt x="1886" y="312"/>
                </a:lnTo>
                <a:lnTo>
                  <a:pt x="1971" y="332"/>
                </a:lnTo>
                <a:lnTo>
                  <a:pt x="2056" y="340"/>
                </a:lnTo>
                <a:lnTo>
                  <a:pt x="2142" y="352"/>
                </a:lnTo>
                <a:lnTo>
                  <a:pt x="2228" y="360"/>
                </a:lnTo>
                <a:lnTo>
                  <a:pt x="2314" y="375"/>
                </a:lnTo>
                <a:lnTo>
                  <a:pt x="2399" y="384"/>
                </a:lnTo>
                <a:lnTo>
                  <a:pt x="2485" y="392"/>
                </a:lnTo>
                <a:lnTo>
                  <a:pt x="2571" y="386"/>
                </a:lnTo>
                <a:lnTo>
                  <a:pt x="2656" y="379"/>
                </a:lnTo>
                <a:lnTo>
                  <a:pt x="2742" y="368"/>
                </a:lnTo>
                <a:lnTo>
                  <a:pt x="2827" y="373"/>
                </a:lnTo>
                <a:lnTo>
                  <a:pt x="2914" y="372"/>
                </a:lnTo>
                <a:lnTo>
                  <a:pt x="2999" y="370"/>
                </a:lnTo>
                <a:lnTo>
                  <a:pt x="3085" y="354"/>
                </a:lnTo>
                <a:lnTo>
                  <a:pt x="3170" y="336"/>
                </a:lnTo>
                <a:lnTo>
                  <a:pt x="3256" y="312"/>
                </a:lnTo>
                <a:lnTo>
                  <a:pt x="3342" y="286"/>
                </a:lnTo>
                <a:lnTo>
                  <a:pt x="3427" y="253"/>
                </a:lnTo>
                <a:lnTo>
                  <a:pt x="3513" y="212"/>
                </a:lnTo>
                <a:lnTo>
                  <a:pt x="3599" y="172"/>
                </a:lnTo>
                <a:lnTo>
                  <a:pt x="3685" y="145"/>
                </a:lnTo>
                <a:lnTo>
                  <a:pt x="3770" y="115"/>
                </a:lnTo>
                <a:lnTo>
                  <a:pt x="3856" y="90"/>
                </a:lnTo>
                <a:lnTo>
                  <a:pt x="3942" y="61"/>
                </a:lnTo>
                <a:lnTo>
                  <a:pt x="4027" y="43"/>
                </a:lnTo>
                <a:lnTo>
                  <a:pt x="4113" y="25"/>
                </a:lnTo>
                <a:lnTo>
                  <a:pt x="4198" y="8"/>
                </a:lnTo>
                <a:lnTo>
                  <a:pt x="4285" y="0"/>
                </a:lnTo>
                <a:lnTo>
                  <a:pt x="4370" y="1"/>
                </a:lnTo>
                <a:lnTo>
                  <a:pt x="4456" y="11"/>
                </a:lnTo>
                <a:lnTo>
                  <a:pt x="4541" y="21"/>
                </a:lnTo>
                <a:lnTo>
                  <a:pt x="4627" y="32"/>
                </a:lnTo>
                <a:lnTo>
                  <a:pt x="4713" y="43"/>
                </a:lnTo>
                <a:lnTo>
                  <a:pt x="4798" y="49"/>
                </a:lnTo>
                <a:lnTo>
                  <a:pt x="4884" y="48"/>
                </a:lnTo>
                <a:lnTo>
                  <a:pt x="4970" y="44"/>
                </a:lnTo>
                <a:lnTo>
                  <a:pt x="5056" y="41"/>
                </a:lnTo>
                <a:lnTo>
                  <a:pt x="5141" y="39"/>
                </a:lnTo>
                <a:lnTo>
                  <a:pt x="5141" y="1145"/>
                </a:lnTo>
                <a:lnTo>
                  <a:pt x="5056" y="1135"/>
                </a:lnTo>
                <a:lnTo>
                  <a:pt x="4970" y="1132"/>
                </a:lnTo>
                <a:lnTo>
                  <a:pt x="4884" y="1127"/>
                </a:lnTo>
                <a:lnTo>
                  <a:pt x="4798" y="1125"/>
                </a:lnTo>
                <a:lnTo>
                  <a:pt x="4713" y="1112"/>
                </a:lnTo>
                <a:lnTo>
                  <a:pt x="4627" y="1104"/>
                </a:lnTo>
                <a:lnTo>
                  <a:pt x="4541" y="1092"/>
                </a:lnTo>
                <a:lnTo>
                  <a:pt x="4456" y="1085"/>
                </a:lnTo>
                <a:lnTo>
                  <a:pt x="4370" y="1085"/>
                </a:lnTo>
                <a:lnTo>
                  <a:pt x="4285" y="1098"/>
                </a:lnTo>
                <a:lnTo>
                  <a:pt x="4198" y="1105"/>
                </a:lnTo>
                <a:lnTo>
                  <a:pt x="4113" y="1106"/>
                </a:lnTo>
                <a:lnTo>
                  <a:pt x="4027" y="1101"/>
                </a:lnTo>
                <a:lnTo>
                  <a:pt x="3942" y="1103"/>
                </a:lnTo>
                <a:lnTo>
                  <a:pt x="3856" y="1115"/>
                </a:lnTo>
                <a:lnTo>
                  <a:pt x="3770" y="1127"/>
                </a:lnTo>
                <a:lnTo>
                  <a:pt x="3685" y="1137"/>
                </a:lnTo>
                <a:lnTo>
                  <a:pt x="3599" y="1143"/>
                </a:lnTo>
                <a:lnTo>
                  <a:pt x="3513" y="1145"/>
                </a:lnTo>
                <a:lnTo>
                  <a:pt x="3427" y="1148"/>
                </a:lnTo>
                <a:lnTo>
                  <a:pt x="3342" y="1148"/>
                </a:lnTo>
                <a:lnTo>
                  <a:pt x="3256" y="1150"/>
                </a:lnTo>
                <a:lnTo>
                  <a:pt x="3170" y="1152"/>
                </a:lnTo>
                <a:lnTo>
                  <a:pt x="3085" y="1157"/>
                </a:lnTo>
                <a:lnTo>
                  <a:pt x="2999" y="1155"/>
                </a:lnTo>
                <a:lnTo>
                  <a:pt x="2914" y="1137"/>
                </a:lnTo>
                <a:lnTo>
                  <a:pt x="2827" y="1112"/>
                </a:lnTo>
                <a:lnTo>
                  <a:pt x="2742" y="1094"/>
                </a:lnTo>
                <a:lnTo>
                  <a:pt x="2656" y="1087"/>
                </a:lnTo>
                <a:lnTo>
                  <a:pt x="2571" y="1075"/>
                </a:lnTo>
                <a:lnTo>
                  <a:pt x="2485" y="1060"/>
                </a:lnTo>
                <a:lnTo>
                  <a:pt x="2399" y="1042"/>
                </a:lnTo>
                <a:lnTo>
                  <a:pt x="2314" y="1025"/>
                </a:lnTo>
                <a:lnTo>
                  <a:pt x="2228" y="1002"/>
                </a:lnTo>
                <a:lnTo>
                  <a:pt x="2142" y="986"/>
                </a:lnTo>
                <a:lnTo>
                  <a:pt x="2056" y="972"/>
                </a:lnTo>
                <a:lnTo>
                  <a:pt x="1971" y="962"/>
                </a:lnTo>
                <a:lnTo>
                  <a:pt x="1886" y="941"/>
                </a:lnTo>
                <a:lnTo>
                  <a:pt x="1799" y="922"/>
                </a:lnTo>
                <a:lnTo>
                  <a:pt x="1714" y="908"/>
                </a:lnTo>
                <a:lnTo>
                  <a:pt x="1628" y="903"/>
                </a:lnTo>
                <a:lnTo>
                  <a:pt x="1543" y="893"/>
                </a:lnTo>
                <a:lnTo>
                  <a:pt x="1456" y="877"/>
                </a:lnTo>
                <a:lnTo>
                  <a:pt x="1371" y="854"/>
                </a:lnTo>
                <a:lnTo>
                  <a:pt x="1286" y="837"/>
                </a:lnTo>
                <a:lnTo>
                  <a:pt x="1200" y="822"/>
                </a:lnTo>
                <a:lnTo>
                  <a:pt x="1114" y="808"/>
                </a:lnTo>
                <a:lnTo>
                  <a:pt x="1028" y="791"/>
                </a:lnTo>
                <a:lnTo>
                  <a:pt x="943" y="770"/>
                </a:lnTo>
                <a:lnTo>
                  <a:pt x="857" y="746"/>
                </a:lnTo>
                <a:lnTo>
                  <a:pt x="771" y="722"/>
                </a:lnTo>
                <a:lnTo>
                  <a:pt x="685" y="702"/>
                </a:lnTo>
                <a:lnTo>
                  <a:pt x="600" y="685"/>
                </a:lnTo>
                <a:lnTo>
                  <a:pt x="515" y="670"/>
                </a:lnTo>
                <a:lnTo>
                  <a:pt x="428" y="660"/>
                </a:lnTo>
                <a:lnTo>
                  <a:pt x="343" y="650"/>
                </a:lnTo>
                <a:lnTo>
                  <a:pt x="257" y="640"/>
                </a:lnTo>
                <a:lnTo>
                  <a:pt x="172" y="634"/>
                </a:lnTo>
                <a:lnTo>
                  <a:pt x="85" y="629"/>
                </a:lnTo>
                <a:lnTo>
                  <a:pt x="0" y="62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114640"/>
            <a:ext cx="8161200" cy="1522440"/>
          </a:xfrm>
          <a:custGeom>
            <a:avLst/>
            <a:gdLst/>
            <a:ahLst/>
            <a:rect l="l" t="t" r="r" b="b"/>
            <a:pathLst>
              <a:path w="5141" h="959">
                <a:moveTo>
                  <a:pt x="0" y="598"/>
                </a:moveTo>
                <a:lnTo>
                  <a:pt x="0" y="242"/>
                </a:lnTo>
                <a:lnTo>
                  <a:pt x="85" y="246"/>
                </a:lnTo>
                <a:lnTo>
                  <a:pt x="172" y="252"/>
                </a:lnTo>
                <a:lnTo>
                  <a:pt x="257" y="259"/>
                </a:lnTo>
                <a:lnTo>
                  <a:pt x="343" y="266"/>
                </a:lnTo>
                <a:lnTo>
                  <a:pt x="428" y="274"/>
                </a:lnTo>
                <a:lnTo>
                  <a:pt x="515" y="281"/>
                </a:lnTo>
                <a:lnTo>
                  <a:pt x="600" y="290"/>
                </a:lnTo>
                <a:lnTo>
                  <a:pt x="685" y="300"/>
                </a:lnTo>
                <a:lnTo>
                  <a:pt x="771" y="310"/>
                </a:lnTo>
                <a:lnTo>
                  <a:pt x="857" y="321"/>
                </a:lnTo>
                <a:lnTo>
                  <a:pt x="943" y="328"/>
                </a:lnTo>
                <a:lnTo>
                  <a:pt x="1028" y="333"/>
                </a:lnTo>
                <a:lnTo>
                  <a:pt x="1114" y="337"/>
                </a:lnTo>
                <a:lnTo>
                  <a:pt x="1200" y="342"/>
                </a:lnTo>
                <a:lnTo>
                  <a:pt x="1286" y="349"/>
                </a:lnTo>
                <a:lnTo>
                  <a:pt x="1371" y="359"/>
                </a:lnTo>
                <a:lnTo>
                  <a:pt x="1456" y="372"/>
                </a:lnTo>
                <a:lnTo>
                  <a:pt x="1543" y="380"/>
                </a:lnTo>
                <a:lnTo>
                  <a:pt x="1628" y="380"/>
                </a:lnTo>
                <a:lnTo>
                  <a:pt x="1714" y="377"/>
                </a:lnTo>
                <a:lnTo>
                  <a:pt x="1799" y="379"/>
                </a:lnTo>
                <a:lnTo>
                  <a:pt x="1886" y="392"/>
                </a:lnTo>
                <a:lnTo>
                  <a:pt x="1971" y="407"/>
                </a:lnTo>
                <a:lnTo>
                  <a:pt x="2056" y="421"/>
                </a:lnTo>
                <a:lnTo>
                  <a:pt x="2142" y="427"/>
                </a:lnTo>
                <a:lnTo>
                  <a:pt x="2228" y="427"/>
                </a:lnTo>
                <a:lnTo>
                  <a:pt x="2314" y="434"/>
                </a:lnTo>
                <a:lnTo>
                  <a:pt x="2399" y="442"/>
                </a:lnTo>
                <a:lnTo>
                  <a:pt x="2485" y="443"/>
                </a:lnTo>
                <a:lnTo>
                  <a:pt x="2571" y="429"/>
                </a:lnTo>
                <a:lnTo>
                  <a:pt x="2656" y="413"/>
                </a:lnTo>
                <a:lnTo>
                  <a:pt x="2742" y="404"/>
                </a:lnTo>
                <a:lnTo>
                  <a:pt x="2827" y="394"/>
                </a:lnTo>
                <a:lnTo>
                  <a:pt x="2914" y="382"/>
                </a:lnTo>
                <a:lnTo>
                  <a:pt x="2999" y="364"/>
                </a:lnTo>
                <a:lnTo>
                  <a:pt x="3085" y="341"/>
                </a:lnTo>
                <a:lnTo>
                  <a:pt x="3170" y="317"/>
                </a:lnTo>
                <a:lnTo>
                  <a:pt x="3256" y="289"/>
                </a:lnTo>
                <a:lnTo>
                  <a:pt x="3342" y="265"/>
                </a:lnTo>
                <a:lnTo>
                  <a:pt x="3427" y="228"/>
                </a:lnTo>
                <a:lnTo>
                  <a:pt x="3513" y="195"/>
                </a:lnTo>
                <a:lnTo>
                  <a:pt x="3599" y="157"/>
                </a:lnTo>
                <a:lnTo>
                  <a:pt x="3685" y="136"/>
                </a:lnTo>
                <a:lnTo>
                  <a:pt x="3770" y="110"/>
                </a:lnTo>
                <a:lnTo>
                  <a:pt x="3856" y="90"/>
                </a:lnTo>
                <a:lnTo>
                  <a:pt x="3942" y="69"/>
                </a:lnTo>
                <a:lnTo>
                  <a:pt x="4027" y="51"/>
                </a:lnTo>
                <a:lnTo>
                  <a:pt x="4113" y="34"/>
                </a:lnTo>
                <a:lnTo>
                  <a:pt x="4198" y="14"/>
                </a:lnTo>
                <a:lnTo>
                  <a:pt x="4285" y="5"/>
                </a:lnTo>
                <a:lnTo>
                  <a:pt x="4370" y="0"/>
                </a:lnTo>
                <a:lnTo>
                  <a:pt x="4456" y="2"/>
                </a:lnTo>
                <a:lnTo>
                  <a:pt x="4541" y="5"/>
                </a:lnTo>
                <a:lnTo>
                  <a:pt x="4627" y="11"/>
                </a:lnTo>
                <a:lnTo>
                  <a:pt x="4713" y="14"/>
                </a:lnTo>
                <a:lnTo>
                  <a:pt x="4798" y="15"/>
                </a:lnTo>
                <a:lnTo>
                  <a:pt x="4884" y="11"/>
                </a:lnTo>
                <a:lnTo>
                  <a:pt x="4970" y="8"/>
                </a:lnTo>
                <a:lnTo>
                  <a:pt x="5056" y="3"/>
                </a:lnTo>
                <a:lnTo>
                  <a:pt x="5141" y="1"/>
                </a:lnTo>
                <a:lnTo>
                  <a:pt x="5141" y="606"/>
                </a:lnTo>
                <a:lnTo>
                  <a:pt x="5056" y="608"/>
                </a:lnTo>
                <a:lnTo>
                  <a:pt x="4970" y="611"/>
                </a:lnTo>
                <a:lnTo>
                  <a:pt x="4884" y="615"/>
                </a:lnTo>
                <a:lnTo>
                  <a:pt x="4798" y="616"/>
                </a:lnTo>
                <a:lnTo>
                  <a:pt x="4713" y="610"/>
                </a:lnTo>
                <a:lnTo>
                  <a:pt x="4627" y="599"/>
                </a:lnTo>
                <a:lnTo>
                  <a:pt x="4541" y="588"/>
                </a:lnTo>
                <a:lnTo>
                  <a:pt x="4456" y="578"/>
                </a:lnTo>
                <a:lnTo>
                  <a:pt x="4370" y="568"/>
                </a:lnTo>
                <a:lnTo>
                  <a:pt x="4285" y="567"/>
                </a:lnTo>
                <a:lnTo>
                  <a:pt x="4198" y="575"/>
                </a:lnTo>
                <a:lnTo>
                  <a:pt x="4113" y="592"/>
                </a:lnTo>
                <a:lnTo>
                  <a:pt x="4027" y="610"/>
                </a:lnTo>
                <a:lnTo>
                  <a:pt x="3942" y="628"/>
                </a:lnTo>
                <a:lnTo>
                  <a:pt x="3856" y="657"/>
                </a:lnTo>
                <a:lnTo>
                  <a:pt x="3770" y="682"/>
                </a:lnTo>
                <a:lnTo>
                  <a:pt x="3685" y="712"/>
                </a:lnTo>
                <a:lnTo>
                  <a:pt x="3599" y="739"/>
                </a:lnTo>
                <a:lnTo>
                  <a:pt x="3513" y="779"/>
                </a:lnTo>
                <a:lnTo>
                  <a:pt x="3427" y="820"/>
                </a:lnTo>
                <a:lnTo>
                  <a:pt x="3342" y="853"/>
                </a:lnTo>
                <a:lnTo>
                  <a:pt x="3256" y="879"/>
                </a:lnTo>
                <a:lnTo>
                  <a:pt x="3170" y="903"/>
                </a:lnTo>
                <a:lnTo>
                  <a:pt x="3085" y="921"/>
                </a:lnTo>
                <a:lnTo>
                  <a:pt x="2999" y="937"/>
                </a:lnTo>
                <a:lnTo>
                  <a:pt x="2914" y="939"/>
                </a:lnTo>
                <a:lnTo>
                  <a:pt x="2827" y="940"/>
                </a:lnTo>
                <a:lnTo>
                  <a:pt x="2742" y="935"/>
                </a:lnTo>
                <a:lnTo>
                  <a:pt x="2656" y="946"/>
                </a:lnTo>
                <a:lnTo>
                  <a:pt x="2571" y="953"/>
                </a:lnTo>
                <a:lnTo>
                  <a:pt x="2485" y="959"/>
                </a:lnTo>
                <a:lnTo>
                  <a:pt x="2399" y="951"/>
                </a:lnTo>
                <a:lnTo>
                  <a:pt x="2314" y="942"/>
                </a:lnTo>
                <a:lnTo>
                  <a:pt x="2228" y="927"/>
                </a:lnTo>
                <a:lnTo>
                  <a:pt x="2142" y="919"/>
                </a:lnTo>
                <a:lnTo>
                  <a:pt x="2056" y="907"/>
                </a:lnTo>
                <a:lnTo>
                  <a:pt x="1971" y="899"/>
                </a:lnTo>
                <a:lnTo>
                  <a:pt x="1886" y="879"/>
                </a:lnTo>
                <a:lnTo>
                  <a:pt x="1799" y="862"/>
                </a:lnTo>
                <a:lnTo>
                  <a:pt x="1714" y="851"/>
                </a:lnTo>
                <a:lnTo>
                  <a:pt x="1628" y="852"/>
                </a:lnTo>
                <a:lnTo>
                  <a:pt x="1543" y="846"/>
                </a:lnTo>
                <a:lnTo>
                  <a:pt x="1456" y="831"/>
                </a:lnTo>
                <a:lnTo>
                  <a:pt x="1371" y="810"/>
                </a:lnTo>
                <a:lnTo>
                  <a:pt x="1286" y="793"/>
                </a:lnTo>
                <a:lnTo>
                  <a:pt x="1200" y="777"/>
                </a:lnTo>
                <a:lnTo>
                  <a:pt x="1114" y="762"/>
                </a:lnTo>
                <a:lnTo>
                  <a:pt x="1028" y="748"/>
                </a:lnTo>
                <a:lnTo>
                  <a:pt x="943" y="731"/>
                </a:lnTo>
                <a:lnTo>
                  <a:pt x="857" y="713"/>
                </a:lnTo>
                <a:lnTo>
                  <a:pt x="771" y="695"/>
                </a:lnTo>
                <a:lnTo>
                  <a:pt x="685" y="676"/>
                </a:lnTo>
                <a:lnTo>
                  <a:pt x="600" y="660"/>
                </a:lnTo>
                <a:lnTo>
                  <a:pt x="515" y="646"/>
                </a:lnTo>
                <a:lnTo>
                  <a:pt x="428" y="635"/>
                </a:lnTo>
                <a:lnTo>
                  <a:pt x="343" y="624"/>
                </a:lnTo>
                <a:lnTo>
                  <a:pt x="257" y="614"/>
                </a:lnTo>
                <a:lnTo>
                  <a:pt x="172" y="606"/>
                </a:lnTo>
                <a:lnTo>
                  <a:pt x="85" y="600"/>
                </a:lnTo>
                <a:lnTo>
                  <a:pt x="0" y="59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114640"/>
            <a:ext cx="8161200" cy="1522440"/>
          </a:xfrm>
          <a:custGeom>
            <a:avLst/>
            <a:gdLst/>
            <a:ahLst/>
            <a:rect l="l" t="t" r="r" b="b"/>
            <a:pathLst>
              <a:path w="5141" h="959">
                <a:moveTo>
                  <a:pt x="0" y="598"/>
                </a:moveTo>
                <a:lnTo>
                  <a:pt x="0" y="242"/>
                </a:lnTo>
                <a:lnTo>
                  <a:pt x="85" y="246"/>
                </a:lnTo>
                <a:lnTo>
                  <a:pt x="172" y="252"/>
                </a:lnTo>
                <a:lnTo>
                  <a:pt x="257" y="259"/>
                </a:lnTo>
                <a:lnTo>
                  <a:pt x="343" y="266"/>
                </a:lnTo>
                <a:lnTo>
                  <a:pt x="428" y="274"/>
                </a:lnTo>
                <a:lnTo>
                  <a:pt x="515" y="281"/>
                </a:lnTo>
                <a:lnTo>
                  <a:pt x="600" y="290"/>
                </a:lnTo>
                <a:lnTo>
                  <a:pt x="685" y="300"/>
                </a:lnTo>
                <a:lnTo>
                  <a:pt x="771" y="310"/>
                </a:lnTo>
                <a:lnTo>
                  <a:pt x="857" y="321"/>
                </a:lnTo>
                <a:lnTo>
                  <a:pt x="943" y="328"/>
                </a:lnTo>
                <a:lnTo>
                  <a:pt x="1028" y="333"/>
                </a:lnTo>
                <a:lnTo>
                  <a:pt x="1114" y="337"/>
                </a:lnTo>
                <a:lnTo>
                  <a:pt x="1200" y="342"/>
                </a:lnTo>
                <a:lnTo>
                  <a:pt x="1286" y="349"/>
                </a:lnTo>
                <a:lnTo>
                  <a:pt x="1371" y="359"/>
                </a:lnTo>
                <a:lnTo>
                  <a:pt x="1456" y="372"/>
                </a:lnTo>
                <a:lnTo>
                  <a:pt x="1543" y="380"/>
                </a:lnTo>
                <a:lnTo>
                  <a:pt x="1628" y="380"/>
                </a:lnTo>
                <a:lnTo>
                  <a:pt x="1714" y="377"/>
                </a:lnTo>
                <a:lnTo>
                  <a:pt x="1799" y="379"/>
                </a:lnTo>
                <a:lnTo>
                  <a:pt x="1886" y="392"/>
                </a:lnTo>
                <a:lnTo>
                  <a:pt x="1971" y="407"/>
                </a:lnTo>
                <a:lnTo>
                  <a:pt x="2056" y="421"/>
                </a:lnTo>
                <a:lnTo>
                  <a:pt x="2142" y="427"/>
                </a:lnTo>
                <a:lnTo>
                  <a:pt x="2228" y="427"/>
                </a:lnTo>
                <a:lnTo>
                  <a:pt x="2314" y="434"/>
                </a:lnTo>
                <a:lnTo>
                  <a:pt x="2399" y="442"/>
                </a:lnTo>
                <a:lnTo>
                  <a:pt x="2485" y="443"/>
                </a:lnTo>
                <a:lnTo>
                  <a:pt x="2571" y="429"/>
                </a:lnTo>
                <a:lnTo>
                  <a:pt x="2656" y="413"/>
                </a:lnTo>
                <a:lnTo>
                  <a:pt x="2742" y="404"/>
                </a:lnTo>
                <a:lnTo>
                  <a:pt x="2827" y="394"/>
                </a:lnTo>
                <a:lnTo>
                  <a:pt x="2914" y="382"/>
                </a:lnTo>
                <a:lnTo>
                  <a:pt x="2999" y="364"/>
                </a:lnTo>
                <a:lnTo>
                  <a:pt x="3085" y="341"/>
                </a:lnTo>
                <a:lnTo>
                  <a:pt x="3170" y="317"/>
                </a:lnTo>
                <a:lnTo>
                  <a:pt x="3256" y="289"/>
                </a:lnTo>
                <a:lnTo>
                  <a:pt x="3342" y="265"/>
                </a:lnTo>
                <a:lnTo>
                  <a:pt x="3427" y="228"/>
                </a:lnTo>
                <a:lnTo>
                  <a:pt x="3513" y="195"/>
                </a:lnTo>
                <a:lnTo>
                  <a:pt x="3599" y="157"/>
                </a:lnTo>
                <a:lnTo>
                  <a:pt x="3685" y="136"/>
                </a:lnTo>
                <a:lnTo>
                  <a:pt x="3770" y="110"/>
                </a:lnTo>
                <a:lnTo>
                  <a:pt x="3856" y="90"/>
                </a:lnTo>
                <a:lnTo>
                  <a:pt x="3942" y="69"/>
                </a:lnTo>
                <a:lnTo>
                  <a:pt x="4027" y="51"/>
                </a:lnTo>
                <a:lnTo>
                  <a:pt x="4113" y="34"/>
                </a:lnTo>
                <a:lnTo>
                  <a:pt x="4198" y="14"/>
                </a:lnTo>
                <a:lnTo>
                  <a:pt x="4285" y="5"/>
                </a:lnTo>
                <a:lnTo>
                  <a:pt x="4370" y="0"/>
                </a:lnTo>
                <a:lnTo>
                  <a:pt x="4456" y="2"/>
                </a:lnTo>
                <a:lnTo>
                  <a:pt x="4541" y="5"/>
                </a:lnTo>
                <a:lnTo>
                  <a:pt x="4627" y="11"/>
                </a:lnTo>
                <a:lnTo>
                  <a:pt x="4713" y="14"/>
                </a:lnTo>
                <a:lnTo>
                  <a:pt x="4798" y="15"/>
                </a:lnTo>
                <a:lnTo>
                  <a:pt x="4884" y="11"/>
                </a:lnTo>
                <a:lnTo>
                  <a:pt x="4970" y="8"/>
                </a:lnTo>
                <a:lnTo>
                  <a:pt x="5056" y="3"/>
                </a:lnTo>
                <a:lnTo>
                  <a:pt x="5141" y="1"/>
                </a:lnTo>
                <a:lnTo>
                  <a:pt x="5141" y="606"/>
                </a:lnTo>
                <a:lnTo>
                  <a:pt x="5056" y="608"/>
                </a:lnTo>
                <a:lnTo>
                  <a:pt x="4970" y="611"/>
                </a:lnTo>
                <a:lnTo>
                  <a:pt x="4884" y="615"/>
                </a:lnTo>
                <a:lnTo>
                  <a:pt x="4798" y="616"/>
                </a:lnTo>
                <a:lnTo>
                  <a:pt x="4713" y="610"/>
                </a:lnTo>
                <a:lnTo>
                  <a:pt x="4627" y="599"/>
                </a:lnTo>
                <a:lnTo>
                  <a:pt x="4541" y="588"/>
                </a:lnTo>
                <a:lnTo>
                  <a:pt x="4456" y="578"/>
                </a:lnTo>
                <a:lnTo>
                  <a:pt x="4370" y="568"/>
                </a:lnTo>
                <a:lnTo>
                  <a:pt x="4285" y="567"/>
                </a:lnTo>
                <a:lnTo>
                  <a:pt x="4198" y="575"/>
                </a:lnTo>
                <a:lnTo>
                  <a:pt x="4113" y="592"/>
                </a:lnTo>
                <a:lnTo>
                  <a:pt x="4027" y="610"/>
                </a:lnTo>
                <a:lnTo>
                  <a:pt x="3942" y="628"/>
                </a:lnTo>
                <a:lnTo>
                  <a:pt x="3856" y="657"/>
                </a:lnTo>
                <a:lnTo>
                  <a:pt x="3770" y="682"/>
                </a:lnTo>
                <a:lnTo>
                  <a:pt x="3685" y="712"/>
                </a:lnTo>
                <a:lnTo>
                  <a:pt x="3599" y="739"/>
                </a:lnTo>
                <a:lnTo>
                  <a:pt x="3513" y="779"/>
                </a:lnTo>
                <a:lnTo>
                  <a:pt x="3427" y="820"/>
                </a:lnTo>
                <a:lnTo>
                  <a:pt x="3342" y="853"/>
                </a:lnTo>
                <a:lnTo>
                  <a:pt x="3256" y="879"/>
                </a:lnTo>
                <a:lnTo>
                  <a:pt x="3170" y="903"/>
                </a:lnTo>
                <a:lnTo>
                  <a:pt x="3085" y="921"/>
                </a:lnTo>
                <a:lnTo>
                  <a:pt x="2999" y="937"/>
                </a:lnTo>
                <a:lnTo>
                  <a:pt x="2914" y="939"/>
                </a:lnTo>
                <a:lnTo>
                  <a:pt x="2827" y="940"/>
                </a:lnTo>
                <a:lnTo>
                  <a:pt x="2742" y="935"/>
                </a:lnTo>
                <a:lnTo>
                  <a:pt x="2656" y="946"/>
                </a:lnTo>
                <a:lnTo>
                  <a:pt x="2571" y="953"/>
                </a:lnTo>
                <a:lnTo>
                  <a:pt x="2485" y="959"/>
                </a:lnTo>
                <a:lnTo>
                  <a:pt x="2399" y="951"/>
                </a:lnTo>
                <a:lnTo>
                  <a:pt x="2314" y="942"/>
                </a:lnTo>
                <a:lnTo>
                  <a:pt x="2228" y="927"/>
                </a:lnTo>
                <a:lnTo>
                  <a:pt x="2142" y="919"/>
                </a:lnTo>
                <a:lnTo>
                  <a:pt x="2056" y="907"/>
                </a:lnTo>
                <a:lnTo>
                  <a:pt x="1971" y="899"/>
                </a:lnTo>
                <a:lnTo>
                  <a:pt x="1886" y="879"/>
                </a:lnTo>
                <a:lnTo>
                  <a:pt x="1799" y="862"/>
                </a:lnTo>
                <a:lnTo>
                  <a:pt x="1714" y="851"/>
                </a:lnTo>
                <a:lnTo>
                  <a:pt x="1628" y="852"/>
                </a:lnTo>
                <a:lnTo>
                  <a:pt x="1543" y="846"/>
                </a:lnTo>
                <a:lnTo>
                  <a:pt x="1456" y="831"/>
                </a:lnTo>
                <a:lnTo>
                  <a:pt x="1371" y="810"/>
                </a:lnTo>
                <a:lnTo>
                  <a:pt x="1286" y="793"/>
                </a:lnTo>
                <a:lnTo>
                  <a:pt x="1200" y="777"/>
                </a:lnTo>
                <a:lnTo>
                  <a:pt x="1114" y="762"/>
                </a:lnTo>
                <a:lnTo>
                  <a:pt x="1028" y="748"/>
                </a:lnTo>
                <a:lnTo>
                  <a:pt x="943" y="731"/>
                </a:lnTo>
                <a:lnTo>
                  <a:pt x="857" y="713"/>
                </a:lnTo>
                <a:lnTo>
                  <a:pt x="771" y="695"/>
                </a:lnTo>
                <a:lnTo>
                  <a:pt x="685" y="676"/>
                </a:lnTo>
                <a:lnTo>
                  <a:pt x="600" y="660"/>
                </a:lnTo>
                <a:lnTo>
                  <a:pt x="515" y="646"/>
                </a:lnTo>
                <a:lnTo>
                  <a:pt x="428" y="635"/>
                </a:lnTo>
                <a:lnTo>
                  <a:pt x="343" y="624"/>
                </a:lnTo>
                <a:lnTo>
                  <a:pt x="257" y="614"/>
                </a:lnTo>
                <a:lnTo>
                  <a:pt x="172" y="606"/>
                </a:lnTo>
                <a:lnTo>
                  <a:pt x="85" y="600"/>
                </a:lnTo>
                <a:lnTo>
                  <a:pt x="0" y="5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841400"/>
            <a:ext cx="8161200" cy="976320"/>
          </a:xfrm>
          <a:custGeom>
            <a:avLst/>
            <a:gdLst/>
            <a:ahLst/>
            <a:rect l="l" t="t" r="r" b="b"/>
            <a:pathLst>
              <a:path w="5141" h="615">
                <a:moveTo>
                  <a:pt x="0" y="414"/>
                </a:moveTo>
                <a:lnTo>
                  <a:pt x="0" y="191"/>
                </a:lnTo>
                <a:lnTo>
                  <a:pt x="85" y="195"/>
                </a:lnTo>
                <a:lnTo>
                  <a:pt x="172" y="201"/>
                </a:lnTo>
                <a:lnTo>
                  <a:pt x="257" y="202"/>
                </a:lnTo>
                <a:lnTo>
                  <a:pt x="343" y="205"/>
                </a:lnTo>
                <a:lnTo>
                  <a:pt x="428" y="209"/>
                </a:lnTo>
                <a:lnTo>
                  <a:pt x="515" y="217"/>
                </a:lnTo>
                <a:lnTo>
                  <a:pt x="600" y="218"/>
                </a:lnTo>
                <a:lnTo>
                  <a:pt x="685" y="216"/>
                </a:lnTo>
                <a:lnTo>
                  <a:pt x="771" y="209"/>
                </a:lnTo>
                <a:lnTo>
                  <a:pt x="857" y="208"/>
                </a:lnTo>
                <a:lnTo>
                  <a:pt x="943" y="216"/>
                </a:lnTo>
                <a:lnTo>
                  <a:pt x="1028" y="226"/>
                </a:lnTo>
                <a:lnTo>
                  <a:pt x="1114" y="236"/>
                </a:lnTo>
                <a:lnTo>
                  <a:pt x="1200" y="242"/>
                </a:lnTo>
                <a:lnTo>
                  <a:pt x="1286" y="247"/>
                </a:lnTo>
                <a:lnTo>
                  <a:pt x="1371" y="251"/>
                </a:lnTo>
                <a:lnTo>
                  <a:pt x="1456" y="258"/>
                </a:lnTo>
                <a:lnTo>
                  <a:pt x="1543" y="265"/>
                </a:lnTo>
                <a:lnTo>
                  <a:pt x="1628" y="267"/>
                </a:lnTo>
                <a:lnTo>
                  <a:pt x="1714" y="266"/>
                </a:lnTo>
                <a:lnTo>
                  <a:pt x="1799" y="268"/>
                </a:lnTo>
                <a:lnTo>
                  <a:pt x="1886" y="276"/>
                </a:lnTo>
                <a:lnTo>
                  <a:pt x="1971" y="283"/>
                </a:lnTo>
                <a:lnTo>
                  <a:pt x="2056" y="292"/>
                </a:lnTo>
                <a:lnTo>
                  <a:pt x="2142" y="295"/>
                </a:lnTo>
                <a:lnTo>
                  <a:pt x="2228" y="294"/>
                </a:lnTo>
                <a:lnTo>
                  <a:pt x="2314" y="299"/>
                </a:lnTo>
                <a:lnTo>
                  <a:pt x="2399" y="301"/>
                </a:lnTo>
                <a:lnTo>
                  <a:pt x="2485" y="300"/>
                </a:lnTo>
                <a:lnTo>
                  <a:pt x="2571" y="288"/>
                </a:lnTo>
                <a:lnTo>
                  <a:pt x="2656" y="278"/>
                </a:lnTo>
                <a:lnTo>
                  <a:pt x="2742" y="272"/>
                </a:lnTo>
                <a:lnTo>
                  <a:pt x="2827" y="266"/>
                </a:lnTo>
                <a:lnTo>
                  <a:pt x="2914" y="256"/>
                </a:lnTo>
                <a:lnTo>
                  <a:pt x="2999" y="239"/>
                </a:lnTo>
                <a:lnTo>
                  <a:pt x="3085" y="217"/>
                </a:lnTo>
                <a:lnTo>
                  <a:pt x="3170" y="195"/>
                </a:lnTo>
                <a:lnTo>
                  <a:pt x="3256" y="175"/>
                </a:lnTo>
                <a:lnTo>
                  <a:pt x="3342" y="161"/>
                </a:lnTo>
                <a:lnTo>
                  <a:pt x="3427" y="139"/>
                </a:lnTo>
                <a:lnTo>
                  <a:pt x="3513" y="117"/>
                </a:lnTo>
                <a:lnTo>
                  <a:pt x="3599" y="91"/>
                </a:lnTo>
                <a:lnTo>
                  <a:pt x="3685" y="81"/>
                </a:lnTo>
                <a:lnTo>
                  <a:pt x="3770" y="67"/>
                </a:lnTo>
                <a:lnTo>
                  <a:pt x="3856" y="60"/>
                </a:lnTo>
                <a:lnTo>
                  <a:pt x="3942" y="50"/>
                </a:lnTo>
                <a:lnTo>
                  <a:pt x="4027" y="40"/>
                </a:lnTo>
                <a:lnTo>
                  <a:pt x="4113" y="27"/>
                </a:lnTo>
                <a:lnTo>
                  <a:pt x="4198" y="13"/>
                </a:lnTo>
                <a:lnTo>
                  <a:pt x="4285" y="11"/>
                </a:lnTo>
                <a:lnTo>
                  <a:pt x="4370" y="12"/>
                </a:lnTo>
                <a:lnTo>
                  <a:pt x="4456" y="17"/>
                </a:lnTo>
                <a:lnTo>
                  <a:pt x="4541" y="18"/>
                </a:lnTo>
                <a:lnTo>
                  <a:pt x="4627" y="21"/>
                </a:lnTo>
                <a:lnTo>
                  <a:pt x="4713" y="21"/>
                </a:lnTo>
                <a:lnTo>
                  <a:pt x="4798" y="17"/>
                </a:lnTo>
                <a:lnTo>
                  <a:pt x="4884" y="9"/>
                </a:lnTo>
                <a:lnTo>
                  <a:pt x="4970" y="5"/>
                </a:lnTo>
                <a:lnTo>
                  <a:pt x="5056" y="0"/>
                </a:lnTo>
                <a:lnTo>
                  <a:pt x="5141" y="2"/>
                </a:lnTo>
                <a:lnTo>
                  <a:pt x="5141" y="173"/>
                </a:lnTo>
                <a:lnTo>
                  <a:pt x="5056" y="175"/>
                </a:lnTo>
                <a:lnTo>
                  <a:pt x="4970" y="180"/>
                </a:lnTo>
                <a:lnTo>
                  <a:pt x="4884" y="183"/>
                </a:lnTo>
                <a:lnTo>
                  <a:pt x="4798" y="187"/>
                </a:lnTo>
                <a:lnTo>
                  <a:pt x="4713" y="186"/>
                </a:lnTo>
                <a:lnTo>
                  <a:pt x="4627" y="183"/>
                </a:lnTo>
                <a:lnTo>
                  <a:pt x="4541" y="177"/>
                </a:lnTo>
                <a:lnTo>
                  <a:pt x="4456" y="174"/>
                </a:lnTo>
                <a:lnTo>
                  <a:pt x="4370" y="172"/>
                </a:lnTo>
                <a:lnTo>
                  <a:pt x="4285" y="177"/>
                </a:lnTo>
                <a:lnTo>
                  <a:pt x="4198" y="186"/>
                </a:lnTo>
                <a:lnTo>
                  <a:pt x="4113" y="206"/>
                </a:lnTo>
                <a:lnTo>
                  <a:pt x="4027" y="223"/>
                </a:lnTo>
                <a:lnTo>
                  <a:pt x="3942" y="241"/>
                </a:lnTo>
                <a:lnTo>
                  <a:pt x="3856" y="262"/>
                </a:lnTo>
                <a:lnTo>
                  <a:pt x="3770" y="282"/>
                </a:lnTo>
                <a:lnTo>
                  <a:pt x="3685" y="308"/>
                </a:lnTo>
                <a:lnTo>
                  <a:pt x="3599" y="329"/>
                </a:lnTo>
                <a:lnTo>
                  <a:pt x="3513" y="367"/>
                </a:lnTo>
                <a:lnTo>
                  <a:pt x="3427" y="400"/>
                </a:lnTo>
                <a:lnTo>
                  <a:pt x="3342" y="437"/>
                </a:lnTo>
                <a:lnTo>
                  <a:pt x="3256" y="461"/>
                </a:lnTo>
                <a:lnTo>
                  <a:pt x="3170" y="489"/>
                </a:lnTo>
                <a:lnTo>
                  <a:pt x="3085" y="513"/>
                </a:lnTo>
                <a:lnTo>
                  <a:pt x="2999" y="536"/>
                </a:lnTo>
                <a:lnTo>
                  <a:pt x="2914" y="554"/>
                </a:lnTo>
                <a:lnTo>
                  <a:pt x="2827" y="566"/>
                </a:lnTo>
                <a:lnTo>
                  <a:pt x="2742" y="576"/>
                </a:lnTo>
                <a:lnTo>
                  <a:pt x="2656" y="585"/>
                </a:lnTo>
                <a:lnTo>
                  <a:pt x="2571" y="601"/>
                </a:lnTo>
                <a:lnTo>
                  <a:pt x="2485" y="615"/>
                </a:lnTo>
                <a:lnTo>
                  <a:pt x="2399" y="614"/>
                </a:lnTo>
                <a:lnTo>
                  <a:pt x="2314" y="606"/>
                </a:lnTo>
                <a:lnTo>
                  <a:pt x="2228" y="599"/>
                </a:lnTo>
                <a:lnTo>
                  <a:pt x="2142" y="599"/>
                </a:lnTo>
                <a:lnTo>
                  <a:pt x="2056" y="593"/>
                </a:lnTo>
                <a:lnTo>
                  <a:pt x="1971" y="579"/>
                </a:lnTo>
                <a:lnTo>
                  <a:pt x="1886" y="564"/>
                </a:lnTo>
                <a:lnTo>
                  <a:pt x="1799" y="551"/>
                </a:lnTo>
                <a:lnTo>
                  <a:pt x="1714" y="549"/>
                </a:lnTo>
                <a:lnTo>
                  <a:pt x="1628" y="552"/>
                </a:lnTo>
                <a:lnTo>
                  <a:pt x="1543" y="552"/>
                </a:lnTo>
                <a:lnTo>
                  <a:pt x="1456" y="544"/>
                </a:lnTo>
                <a:lnTo>
                  <a:pt x="1371" y="531"/>
                </a:lnTo>
                <a:lnTo>
                  <a:pt x="1286" y="521"/>
                </a:lnTo>
                <a:lnTo>
                  <a:pt x="1200" y="514"/>
                </a:lnTo>
                <a:lnTo>
                  <a:pt x="1114" y="509"/>
                </a:lnTo>
                <a:lnTo>
                  <a:pt x="1028" y="505"/>
                </a:lnTo>
                <a:lnTo>
                  <a:pt x="943" y="500"/>
                </a:lnTo>
                <a:lnTo>
                  <a:pt x="857" y="493"/>
                </a:lnTo>
                <a:lnTo>
                  <a:pt x="771" y="482"/>
                </a:lnTo>
                <a:lnTo>
                  <a:pt x="685" y="472"/>
                </a:lnTo>
                <a:lnTo>
                  <a:pt x="600" y="462"/>
                </a:lnTo>
                <a:lnTo>
                  <a:pt x="515" y="453"/>
                </a:lnTo>
                <a:lnTo>
                  <a:pt x="428" y="446"/>
                </a:lnTo>
                <a:lnTo>
                  <a:pt x="343" y="438"/>
                </a:lnTo>
                <a:lnTo>
                  <a:pt x="257" y="431"/>
                </a:lnTo>
                <a:lnTo>
                  <a:pt x="172" y="424"/>
                </a:lnTo>
                <a:lnTo>
                  <a:pt x="85" y="418"/>
                </a:lnTo>
                <a:lnTo>
                  <a:pt x="0" y="4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841400"/>
            <a:ext cx="8161200" cy="976320"/>
          </a:xfrm>
          <a:custGeom>
            <a:avLst/>
            <a:gdLst/>
            <a:ahLst/>
            <a:rect l="l" t="t" r="r" b="b"/>
            <a:pathLst>
              <a:path w="5141" h="615">
                <a:moveTo>
                  <a:pt x="0" y="414"/>
                </a:moveTo>
                <a:lnTo>
                  <a:pt x="0" y="191"/>
                </a:lnTo>
                <a:lnTo>
                  <a:pt x="85" y="195"/>
                </a:lnTo>
                <a:lnTo>
                  <a:pt x="172" y="201"/>
                </a:lnTo>
                <a:lnTo>
                  <a:pt x="257" y="202"/>
                </a:lnTo>
                <a:lnTo>
                  <a:pt x="343" y="205"/>
                </a:lnTo>
                <a:lnTo>
                  <a:pt x="428" y="209"/>
                </a:lnTo>
                <a:lnTo>
                  <a:pt x="515" y="217"/>
                </a:lnTo>
                <a:lnTo>
                  <a:pt x="600" y="218"/>
                </a:lnTo>
                <a:lnTo>
                  <a:pt x="685" y="216"/>
                </a:lnTo>
                <a:lnTo>
                  <a:pt x="771" y="209"/>
                </a:lnTo>
                <a:lnTo>
                  <a:pt x="857" y="208"/>
                </a:lnTo>
                <a:lnTo>
                  <a:pt x="943" y="216"/>
                </a:lnTo>
                <a:lnTo>
                  <a:pt x="1028" y="226"/>
                </a:lnTo>
                <a:lnTo>
                  <a:pt x="1114" y="236"/>
                </a:lnTo>
                <a:lnTo>
                  <a:pt x="1200" y="242"/>
                </a:lnTo>
                <a:lnTo>
                  <a:pt x="1286" y="247"/>
                </a:lnTo>
                <a:lnTo>
                  <a:pt x="1371" y="251"/>
                </a:lnTo>
                <a:lnTo>
                  <a:pt x="1456" y="258"/>
                </a:lnTo>
                <a:lnTo>
                  <a:pt x="1543" y="265"/>
                </a:lnTo>
                <a:lnTo>
                  <a:pt x="1628" y="267"/>
                </a:lnTo>
                <a:lnTo>
                  <a:pt x="1714" y="266"/>
                </a:lnTo>
                <a:lnTo>
                  <a:pt x="1799" y="268"/>
                </a:lnTo>
                <a:lnTo>
                  <a:pt x="1886" y="276"/>
                </a:lnTo>
                <a:lnTo>
                  <a:pt x="1971" y="283"/>
                </a:lnTo>
                <a:lnTo>
                  <a:pt x="2056" y="292"/>
                </a:lnTo>
                <a:lnTo>
                  <a:pt x="2142" y="295"/>
                </a:lnTo>
                <a:lnTo>
                  <a:pt x="2228" y="294"/>
                </a:lnTo>
                <a:lnTo>
                  <a:pt x="2314" y="299"/>
                </a:lnTo>
                <a:lnTo>
                  <a:pt x="2399" y="301"/>
                </a:lnTo>
                <a:lnTo>
                  <a:pt x="2485" y="300"/>
                </a:lnTo>
                <a:lnTo>
                  <a:pt x="2571" y="288"/>
                </a:lnTo>
                <a:lnTo>
                  <a:pt x="2656" y="278"/>
                </a:lnTo>
                <a:lnTo>
                  <a:pt x="2742" y="272"/>
                </a:lnTo>
                <a:lnTo>
                  <a:pt x="2827" y="266"/>
                </a:lnTo>
                <a:lnTo>
                  <a:pt x="2914" y="256"/>
                </a:lnTo>
                <a:lnTo>
                  <a:pt x="2999" y="239"/>
                </a:lnTo>
                <a:lnTo>
                  <a:pt x="3085" y="217"/>
                </a:lnTo>
                <a:lnTo>
                  <a:pt x="3170" y="195"/>
                </a:lnTo>
                <a:lnTo>
                  <a:pt x="3256" y="175"/>
                </a:lnTo>
                <a:lnTo>
                  <a:pt x="3342" y="161"/>
                </a:lnTo>
                <a:lnTo>
                  <a:pt x="3427" y="139"/>
                </a:lnTo>
                <a:lnTo>
                  <a:pt x="3513" y="117"/>
                </a:lnTo>
                <a:lnTo>
                  <a:pt x="3599" y="91"/>
                </a:lnTo>
                <a:lnTo>
                  <a:pt x="3685" y="81"/>
                </a:lnTo>
                <a:lnTo>
                  <a:pt x="3770" y="67"/>
                </a:lnTo>
                <a:lnTo>
                  <a:pt x="3856" y="60"/>
                </a:lnTo>
                <a:lnTo>
                  <a:pt x="3942" y="50"/>
                </a:lnTo>
                <a:lnTo>
                  <a:pt x="4027" y="40"/>
                </a:lnTo>
                <a:lnTo>
                  <a:pt x="4113" y="27"/>
                </a:lnTo>
                <a:lnTo>
                  <a:pt x="4198" y="13"/>
                </a:lnTo>
                <a:lnTo>
                  <a:pt x="4285" y="11"/>
                </a:lnTo>
                <a:lnTo>
                  <a:pt x="4370" y="12"/>
                </a:lnTo>
                <a:lnTo>
                  <a:pt x="4456" y="17"/>
                </a:lnTo>
                <a:lnTo>
                  <a:pt x="4541" y="18"/>
                </a:lnTo>
                <a:lnTo>
                  <a:pt x="4627" y="21"/>
                </a:lnTo>
                <a:lnTo>
                  <a:pt x="4713" y="21"/>
                </a:lnTo>
                <a:lnTo>
                  <a:pt x="4798" y="17"/>
                </a:lnTo>
                <a:lnTo>
                  <a:pt x="4884" y="9"/>
                </a:lnTo>
                <a:lnTo>
                  <a:pt x="4970" y="5"/>
                </a:lnTo>
                <a:lnTo>
                  <a:pt x="5056" y="0"/>
                </a:lnTo>
                <a:lnTo>
                  <a:pt x="5141" y="2"/>
                </a:lnTo>
                <a:lnTo>
                  <a:pt x="5141" y="173"/>
                </a:lnTo>
                <a:lnTo>
                  <a:pt x="5056" y="175"/>
                </a:lnTo>
                <a:lnTo>
                  <a:pt x="4970" y="180"/>
                </a:lnTo>
                <a:lnTo>
                  <a:pt x="4884" y="183"/>
                </a:lnTo>
                <a:lnTo>
                  <a:pt x="4798" y="187"/>
                </a:lnTo>
                <a:lnTo>
                  <a:pt x="4713" y="186"/>
                </a:lnTo>
                <a:lnTo>
                  <a:pt x="4627" y="183"/>
                </a:lnTo>
                <a:lnTo>
                  <a:pt x="4541" y="177"/>
                </a:lnTo>
                <a:lnTo>
                  <a:pt x="4456" y="174"/>
                </a:lnTo>
                <a:lnTo>
                  <a:pt x="4370" y="172"/>
                </a:lnTo>
                <a:lnTo>
                  <a:pt x="4285" y="177"/>
                </a:lnTo>
                <a:lnTo>
                  <a:pt x="4198" y="186"/>
                </a:lnTo>
                <a:lnTo>
                  <a:pt x="4113" y="206"/>
                </a:lnTo>
                <a:lnTo>
                  <a:pt x="4027" y="223"/>
                </a:lnTo>
                <a:lnTo>
                  <a:pt x="3942" y="241"/>
                </a:lnTo>
                <a:lnTo>
                  <a:pt x="3856" y="262"/>
                </a:lnTo>
                <a:lnTo>
                  <a:pt x="3770" y="282"/>
                </a:lnTo>
                <a:lnTo>
                  <a:pt x="3685" y="308"/>
                </a:lnTo>
                <a:lnTo>
                  <a:pt x="3599" y="329"/>
                </a:lnTo>
                <a:lnTo>
                  <a:pt x="3513" y="367"/>
                </a:lnTo>
                <a:lnTo>
                  <a:pt x="3427" y="400"/>
                </a:lnTo>
                <a:lnTo>
                  <a:pt x="3342" y="437"/>
                </a:lnTo>
                <a:lnTo>
                  <a:pt x="3256" y="461"/>
                </a:lnTo>
                <a:lnTo>
                  <a:pt x="3170" y="489"/>
                </a:lnTo>
                <a:lnTo>
                  <a:pt x="3085" y="513"/>
                </a:lnTo>
                <a:lnTo>
                  <a:pt x="2999" y="536"/>
                </a:lnTo>
                <a:lnTo>
                  <a:pt x="2914" y="554"/>
                </a:lnTo>
                <a:lnTo>
                  <a:pt x="2827" y="566"/>
                </a:lnTo>
                <a:lnTo>
                  <a:pt x="2742" y="576"/>
                </a:lnTo>
                <a:lnTo>
                  <a:pt x="2656" y="585"/>
                </a:lnTo>
                <a:lnTo>
                  <a:pt x="2571" y="601"/>
                </a:lnTo>
                <a:lnTo>
                  <a:pt x="2485" y="615"/>
                </a:lnTo>
                <a:lnTo>
                  <a:pt x="2399" y="614"/>
                </a:lnTo>
                <a:lnTo>
                  <a:pt x="2314" y="606"/>
                </a:lnTo>
                <a:lnTo>
                  <a:pt x="2228" y="599"/>
                </a:lnTo>
                <a:lnTo>
                  <a:pt x="2142" y="599"/>
                </a:lnTo>
                <a:lnTo>
                  <a:pt x="2056" y="593"/>
                </a:lnTo>
                <a:lnTo>
                  <a:pt x="1971" y="579"/>
                </a:lnTo>
                <a:lnTo>
                  <a:pt x="1886" y="564"/>
                </a:lnTo>
                <a:lnTo>
                  <a:pt x="1799" y="551"/>
                </a:lnTo>
                <a:lnTo>
                  <a:pt x="1714" y="549"/>
                </a:lnTo>
                <a:lnTo>
                  <a:pt x="1628" y="552"/>
                </a:lnTo>
                <a:lnTo>
                  <a:pt x="1543" y="552"/>
                </a:lnTo>
                <a:lnTo>
                  <a:pt x="1456" y="544"/>
                </a:lnTo>
                <a:lnTo>
                  <a:pt x="1371" y="531"/>
                </a:lnTo>
                <a:lnTo>
                  <a:pt x="1286" y="521"/>
                </a:lnTo>
                <a:lnTo>
                  <a:pt x="1200" y="514"/>
                </a:lnTo>
                <a:lnTo>
                  <a:pt x="1114" y="509"/>
                </a:lnTo>
                <a:lnTo>
                  <a:pt x="1028" y="505"/>
                </a:lnTo>
                <a:lnTo>
                  <a:pt x="943" y="500"/>
                </a:lnTo>
                <a:lnTo>
                  <a:pt x="857" y="493"/>
                </a:lnTo>
                <a:lnTo>
                  <a:pt x="771" y="482"/>
                </a:lnTo>
                <a:lnTo>
                  <a:pt x="685" y="472"/>
                </a:lnTo>
                <a:lnTo>
                  <a:pt x="600" y="462"/>
                </a:lnTo>
                <a:lnTo>
                  <a:pt x="515" y="453"/>
                </a:lnTo>
                <a:lnTo>
                  <a:pt x="428" y="446"/>
                </a:lnTo>
                <a:lnTo>
                  <a:pt x="343" y="438"/>
                </a:lnTo>
                <a:lnTo>
                  <a:pt x="257" y="431"/>
                </a:lnTo>
                <a:lnTo>
                  <a:pt x="172" y="424"/>
                </a:lnTo>
                <a:lnTo>
                  <a:pt x="85" y="418"/>
                </a:lnTo>
                <a:lnTo>
                  <a:pt x="0" y="4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690560"/>
            <a:ext cx="8161200" cy="628920"/>
          </a:xfrm>
          <a:custGeom>
            <a:avLst/>
            <a:gdLst/>
            <a:ahLst/>
            <a:rect l="l" t="t" r="r" b="b"/>
            <a:pathLst>
              <a:path w="5141" h="396">
                <a:moveTo>
                  <a:pt x="0" y="286"/>
                </a:moveTo>
                <a:lnTo>
                  <a:pt x="0" y="0"/>
                </a:lnTo>
                <a:lnTo>
                  <a:pt x="85" y="0"/>
                </a:lnTo>
                <a:lnTo>
                  <a:pt x="172" y="0"/>
                </a:lnTo>
                <a:lnTo>
                  <a:pt x="257" y="0"/>
                </a:lnTo>
                <a:lnTo>
                  <a:pt x="343" y="0"/>
                </a:lnTo>
                <a:lnTo>
                  <a:pt x="428" y="0"/>
                </a:lnTo>
                <a:lnTo>
                  <a:pt x="515" y="0"/>
                </a:lnTo>
                <a:lnTo>
                  <a:pt x="600" y="0"/>
                </a:lnTo>
                <a:lnTo>
                  <a:pt x="685" y="0"/>
                </a:lnTo>
                <a:lnTo>
                  <a:pt x="771" y="0"/>
                </a:lnTo>
                <a:lnTo>
                  <a:pt x="857" y="0"/>
                </a:lnTo>
                <a:lnTo>
                  <a:pt x="943" y="0"/>
                </a:lnTo>
                <a:lnTo>
                  <a:pt x="1028" y="0"/>
                </a:lnTo>
                <a:lnTo>
                  <a:pt x="1114" y="0"/>
                </a:lnTo>
                <a:lnTo>
                  <a:pt x="1200" y="0"/>
                </a:lnTo>
                <a:lnTo>
                  <a:pt x="1286" y="0"/>
                </a:lnTo>
                <a:lnTo>
                  <a:pt x="1371" y="0"/>
                </a:lnTo>
                <a:lnTo>
                  <a:pt x="1456" y="0"/>
                </a:lnTo>
                <a:lnTo>
                  <a:pt x="1543" y="0"/>
                </a:lnTo>
                <a:lnTo>
                  <a:pt x="1628" y="0"/>
                </a:lnTo>
                <a:lnTo>
                  <a:pt x="1714" y="0"/>
                </a:lnTo>
                <a:lnTo>
                  <a:pt x="1799" y="1"/>
                </a:lnTo>
                <a:lnTo>
                  <a:pt x="1886" y="1"/>
                </a:lnTo>
                <a:lnTo>
                  <a:pt x="1971" y="1"/>
                </a:lnTo>
                <a:lnTo>
                  <a:pt x="2056" y="1"/>
                </a:lnTo>
                <a:lnTo>
                  <a:pt x="2142" y="1"/>
                </a:lnTo>
                <a:lnTo>
                  <a:pt x="2228" y="1"/>
                </a:lnTo>
                <a:lnTo>
                  <a:pt x="2314" y="1"/>
                </a:lnTo>
                <a:lnTo>
                  <a:pt x="2399" y="1"/>
                </a:lnTo>
                <a:lnTo>
                  <a:pt x="2485" y="1"/>
                </a:lnTo>
                <a:lnTo>
                  <a:pt x="2571" y="1"/>
                </a:lnTo>
                <a:lnTo>
                  <a:pt x="2656" y="1"/>
                </a:lnTo>
                <a:lnTo>
                  <a:pt x="2742" y="1"/>
                </a:lnTo>
                <a:lnTo>
                  <a:pt x="2827" y="1"/>
                </a:lnTo>
                <a:lnTo>
                  <a:pt x="2914" y="1"/>
                </a:lnTo>
                <a:lnTo>
                  <a:pt x="2999" y="1"/>
                </a:lnTo>
                <a:lnTo>
                  <a:pt x="3085" y="1"/>
                </a:lnTo>
                <a:lnTo>
                  <a:pt x="3170" y="1"/>
                </a:lnTo>
                <a:lnTo>
                  <a:pt x="3256" y="1"/>
                </a:lnTo>
                <a:lnTo>
                  <a:pt x="3342" y="1"/>
                </a:lnTo>
                <a:lnTo>
                  <a:pt x="3427" y="1"/>
                </a:lnTo>
                <a:lnTo>
                  <a:pt x="3513" y="1"/>
                </a:lnTo>
                <a:lnTo>
                  <a:pt x="3599" y="1"/>
                </a:lnTo>
                <a:lnTo>
                  <a:pt x="3685" y="0"/>
                </a:lnTo>
                <a:lnTo>
                  <a:pt x="3770" y="0"/>
                </a:lnTo>
                <a:lnTo>
                  <a:pt x="3856" y="0"/>
                </a:lnTo>
                <a:lnTo>
                  <a:pt x="3942" y="0"/>
                </a:lnTo>
                <a:lnTo>
                  <a:pt x="4027" y="0"/>
                </a:lnTo>
                <a:lnTo>
                  <a:pt x="4113" y="0"/>
                </a:lnTo>
                <a:lnTo>
                  <a:pt x="4198" y="0"/>
                </a:lnTo>
                <a:lnTo>
                  <a:pt x="4285" y="0"/>
                </a:lnTo>
                <a:lnTo>
                  <a:pt x="4370" y="0"/>
                </a:lnTo>
                <a:lnTo>
                  <a:pt x="4456" y="0"/>
                </a:lnTo>
                <a:lnTo>
                  <a:pt x="4541" y="0"/>
                </a:lnTo>
                <a:lnTo>
                  <a:pt x="4627" y="0"/>
                </a:lnTo>
                <a:lnTo>
                  <a:pt x="4713" y="0"/>
                </a:lnTo>
                <a:lnTo>
                  <a:pt x="4798" y="0"/>
                </a:lnTo>
                <a:lnTo>
                  <a:pt x="4884" y="0"/>
                </a:lnTo>
                <a:lnTo>
                  <a:pt x="4970" y="0"/>
                </a:lnTo>
                <a:lnTo>
                  <a:pt x="5056" y="0"/>
                </a:lnTo>
                <a:lnTo>
                  <a:pt x="5141" y="0"/>
                </a:lnTo>
                <a:lnTo>
                  <a:pt x="5141" y="97"/>
                </a:lnTo>
                <a:lnTo>
                  <a:pt x="5056" y="95"/>
                </a:lnTo>
                <a:lnTo>
                  <a:pt x="4970" y="100"/>
                </a:lnTo>
                <a:lnTo>
                  <a:pt x="4884" y="104"/>
                </a:lnTo>
                <a:lnTo>
                  <a:pt x="4798" y="112"/>
                </a:lnTo>
                <a:lnTo>
                  <a:pt x="4713" y="116"/>
                </a:lnTo>
                <a:lnTo>
                  <a:pt x="4627" y="116"/>
                </a:lnTo>
                <a:lnTo>
                  <a:pt x="4541" y="113"/>
                </a:lnTo>
                <a:lnTo>
                  <a:pt x="4456" y="112"/>
                </a:lnTo>
                <a:lnTo>
                  <a:pt x="4370" y="107"/>
                </a:lnTo>
                <a:lnTo>
                  <a:pt x="4285" y="106"/>
                </a:lnTo>
                <a:lnTo>
                  <a:pt x="4198" y="108"/>
                </a:lnTo>
                <a:lnTo>
                  <a:pt x="4113" y="122"/>
                </a:lnTo>
                <a:lnTo>
                  <a:pt x="4027" y="135"/>
                </a:lnTo>
                <a:lnTo>
                  <a:pt x="3942" y="145"/>
                </a:lnTo>
                <a:lnTo>
                  <a:pt x="3856" y="155"/>
                </a:lnTo>
                <a:lnTo>
                  <a:pt x="3770" y="162"/>
                </a:lnTo>
                <a:lnTo>
                  <a:pt x="3685" y="176"/>
                </a:lnTo>
                <a:lnTo>
                  <a:pt x="3599" y="186"/>
                </a:lnTo>
                <a:lnTo>
                  <a:pt x="3513" y="212"/>
                </a:lnTo>
                <a:lnTo>
                  <a:pt x="3427" y="234"/>
                </a:lnTo>
                <a:lnTo>
                  <a:pt x="3342" y="256"/>
                </a:lnTo>
                <a:lnTo>
                  <a:pt x="3256" y="270"/>
                </a:lnTo>
                <a:lnTo>
                  <a:pt x="3170" y="290"/>
                </a:lnTo>
                <a:lnTo>
                  <a:pt x="3085" y="312"/>
                </a:lnTo>
                <a:lnTo>
                  <a:pt x="2999" y="334"/>
                </a:lnTo>
                <a:lnTo>
                  <a:pt x="2914" y="351"/>
                </a:lnTo>
                <a:lnTo>
                  <a:pt x="2827" y="361"/>
                </a:lnTo>
                <a:lnTo>
                  <a:pt x="2742" y="367"/>
                </a:lnTo>
                <a:lnTo>
                  <a:pt x="2656" y="373"/>
                </a:lnTo>
                <a:lnTo>
                  <a:pt x="2571" y="383"/>
                </a:lnTo>
                <a:lnTo>
                  <a:pt x="2485" y="395"/>
                </a:lnTo>
                <a:lnTo>
                  <a:pt x="2399" y="396"/>
                </a:lnTo>
                <a:lnTo>
                  <a:pt x="2314" y="394"/>
                </a:lnTo>
                <a:lnTo>
                  <a:pt x="2228" y="389"/>
                </a:lnTo>
                <a:lnTo>
                  <a:pt x="2142" y="390"/>
                </a:lnTo>
                <a:lnTo>
                  <a:pt x="2056" y="387"/>
                </a:lnTo>
                <a:lnTo>
                  <a:pt x="1971" y="378"/>
                </a:lnTo>
                <a:lnTo>
                  <a:pt x="1886" y="371"/>
                </a:lnTo>
                <a:lnTo>
                  <a:pt x="1799" y="363"/>
                </a:lnTo>
                <a:lnTo>
                  <a:pt x="1714" y="361"/>
                </a:lnTo>
                <a:lnTo>
                  <a:pt x="1628" y="362"/>
                </a:lnTo>
                <a:lnTo>
                  <a:pt x="1543" y="360"/>
                </a:lnTo>
                <a:lnTo>
                  <a:pt x="1456" y="353"/>
                </a:lnTo>
                <a:lnTo>
                  <a:pt x="1371" y="346"/>
                </a:lnTo>
                <a:lnTo>
                  <a:pt x="1286" y="342"/>
                </a:lnTo>
                <a:lnTo>
                  <a:pt x="1200" y="337"/>
                </a:lnTo>
                <a:lnTo>
                  <a:pt x="1114" y="331"/>
                </a:lnTo>
                <a:lnTo>
                  <a:pt x="1028" y="321"/>
                </a:lnTo>
                <a:lnTo>
                  <a:pt x="943" y="311"/>
                </a:lnTo>
                <a:lnTo>
                  <a:pt x="857" y="303"/>
                </a:lnTo>
                <a:lnTo>
                  <a:pt x="771" y="304"/>
                </a:lnTo>
                <a:lnTo>
                  <a:pt x="685" y="311"/>
                </a:lnTo>
                <a:lnTo>
                  <a:pt x="600" y="313"/>
                </a:lnTo>
                <a:lnTo>
                  <a:pt x="515" y="312"/>
                </a:lnTo>
                <a:lnTo>
                  <a:pt x="428" y="304"/>
                </a:lnTo>
                <a:lnTo>
                  <a:pt x="343" y="300"/>
                </a:lnTo>
                <a:lnTo>
                  <a:pt x="257" y="297"/>
                </a:lnTo>
                <a:lnTo>
                  <a:pt x="172" y="296"/>
                </a:lnTo>
                <a:lnTo>
                  <a:pt x="85" y="290"/>
                </a:lnTo>
                <a:lnTo>
                  <a:pt x="0" y="28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690560"/>
            <a:ext cx="8161200" cy="628920"/>
          </a:xfrm>
          <a:custGeom>
            <a:avLst/>
            <a:gdLst/>
            <a:ahLst/>
            <a:rect l="l" t="t" r="r" b="b"/>
            <a:pathLst>
              <a:path w="5141" h="396">
                <a:moveTo>
                  <a:pt x="0" y="286"/>
                </a:moveTo>
                <a:lnTo>
                  <a:pt x="0" y="0"/>
                </a:lnTo>
                <a:lnTo>
                  <a:pt x="85" y="0"/>
                </a:lnTo>
                <a:lnTo>
                  <a:pt x="172" y="0"/>
                </a:lnTo>
                <a:lnTo>
                  <a:pt x="257" y="0"/>
                </a:lnTo>
                <a:lnTo>
                  <a:pt x="343" y="0"/>
                </a:lnTo>
                <a:lnTo>
                  <a:pt x="428" y="0"/>
                </a:lnTo>
                <a:lnTo>
                  <a:pt x="515" y="0"/>
                </a:lnTo>
                <a:lnTo>
                  <a:pt x="600" y="0"/>
                </a:lnTo>
                <a:lnTo>
                  <a:pt x="685" y="0"/>
                </a:lnTo>
                <a:lnTo>
                  <a:pt x="771" y="0"/>
                </a:lnTo>
                <a:lnTo>
                  <a:pt x="857" y="0"/>
                </a:lnTo>
                <a:lnTo>
                  <a:pt x="943" y="0"/>
                </a:lnTo>
                <a:lnTo>
                  <a:pt x="1028" y="0"/>
                </a:lnTo>
                <a:lnTo>
                  <a:pt x="1114" y="0"/>
                </a:lnTo>
                <a:lnTo>
                  <a:pt x="1200" y="0"/>
                </a:lnTo>
                <a:lnTo>
                  <a:pt x="1286" y="0"/>
                </a:lnTo>
                <a:lnTo>
                  <a:pt x="1371" y="0"/>
                </a:lnTo>
                <a:lnTo>
                  <a:pt x="1456" y="0"/>
                </a:lnTo>
                <a:lnTo>
                  <a:pt x="1543" y="0"/>
                </a:lnTo>
                <a:lnTo>
                  <a:pt x="1628" y="0"/>
                </a:lnTo>
                <a:lnTo>
                  <a:pt x="1714" y="0"/>
                </a:lnTo>
                <a:lnTo>
                  <a:pt x="1799" y="1"/>
                </a:lnTo>
                <a:lnTo>
                  <a:pt x="1886" y="1"/>
                </a:lnTo>
                <a:lnTo>
                  <a:pt x="1971" y="1"/>
                </a:lnTo>
                <a:lnTo>
                  <a:pt x="2056" y="1"/>
                </a:lnTo>
                <a:lnTo>
                  <a:pt x="2142" y="1"/>
                </a:lnTo>
                <a:lnTo>
                  <a:pt x="2228" y="1"/>
                </a:lnTo>
                <a:lnTo>
                  <a:pt x="2314" y="1"/>
                </a:lnTo>
                <a:lnTo>
                  <a:pt x="2399" y="1"/>
                </a:lnTo>
                <a:lnTo>
                  <a:pt x="2485" y="1"/>
                </a:lnTo>
                <a:lnTo>
                  <a:pt x="2571" y="1"/>
                </a:lnTo>
                <a:lnTo>
                  <a:pt x="2656" y="1"/>
                </a:lnTo>
                <a:lnTo>
                  <a:pt x="2742" y="1"/>
                </a:lnTo>
                <a:lnTo>
                  <a:pt x="2827" y="1"/>
                </a:lnTo>
                <a:lnTo>
                  <a:pt x="2914" y="1"/>
                </a:lnTo>
                <a:lnTo>
                  <a:pt x="2999" y="1"/>
                </a:lnTo>
                <a:lnTo>
                  <a:pt x="3085" y="1"/>
                </a:lnTo>
                <a:lnTo>
                  <a:pt x="3170" y="1"/>
                </a:lnTo>
                <a:lnTo>
                  <a:pt x="3256" y="1"/>
                </a:lnTo>
                <a:lnTo>
                  <a:pt x="3342" y="1"/>
                </a:lnTo>
                <a:lnTo>
                  <a:pt x="3427" y="1"/>
                </a:lnTo>
                <a:lnTo>
                  <a:pt x="3513" y="1"/>
                </a:lnTo>
                <a:lnTo>
                  <a:pt x="3599" y="1"/>
                </a:lnTo>
                <a:lnTo>
                  <a:pt x="3685" y="0"/>
                </a:lnTo>
                <a:lnTo>
                  <a:pt x="3770" y="0"/>
                </a:lnTo>
                <a:lnTo>
                  <a:pt x="3856" y="0"/>
                </a:lnTo>
                <a:lnTo>
                  <a:pt x="3942" y="0"/>
                </a:lnTo>
                <a:lnTo>
                  <a:pt x="4027" y="0"/>
                </a:lnTo>
                <a:lnTo>
                  <a:pt x="4113" y="0"/>
                </a:lnTo>
                <a:lnTo>
                  <a:pt x="4198" y="0"/>
                </a:lnTo>
                <a:lnTo>
                  <a:pt x="4285" y="0"/>
                </a:lnTo>
                <a:lnTo>
                  <a:pt x="4370" y="0"/>
                </a:lnTo>
                <a:lnTo>
                  <a:pt x="4456" y="0"/>
                </a:lnTo>
                <a:lnTo>
                  <a:pt x="4541" y="0"/>
                </a:lnTo>
                <a:lnTo>
                  <a:pt x="4627" y="0"/>
                </a:lnTo>
                <a:lnTo>
                  <a:pt x="4713" y="0"/>
                </a:lnTo>
                <a:lnTo>
                  <a:pt x="4798" y="0"/>
                </a:lnTo>
                <a:lnTo>
                  <a:pt x="4884" y="0"/>
                </a:lnTo>
                <a:lnTo>
                  <a:pt x="4970" y="0"/>
                </a:lnTo>
                <a:lnTo>
                  <a:pt x="5056" y="0"/>
                </a:lnTo>
                <a:lnTo>
                  <a:pt x="5141" y="0"/>
                </a:lnTo>
                <a:lnTo>
                  <a:pt x="5141" y="97"/>
                </a:lnTo>
                <a:lnTo>
                  <a:pt x="5056" y="95"/>
                </a:lnTo>
                <a:lnTo>
                  <a:pt x="4970" y="100"/>
                </a:lnTo>
                <a:lnTo>
                  <a:pt x="4884" y="104"/>
                </a:lnTo>
                <a:lnTo>
                  <a:pt x="4798" y="112"/>
                </a:lnTo>
                <a:lnTo>
                  <a:pt x="4713" y="116"/>
                </a:lnTo>
                <a:lnTo>
                  <a:pt x="4627" y="116"/>
                </a:lnTo>
                <a:lnTo>
                  <a:pt x="4541" y="113"/>
                </a:lnTo>
                <a:lnTo>
                  <a:pt x="4456" y="112"/>
                </a:lnTo>
                <a:lnTo>
                  <a:pt x="4370" y="107"/>
                </a:lnTo>
                <a:lnTo>
                  <a:pt x="4285" y="106"/>
                </a:lnTo>
                <a:lnTo>
                  <a:pt x="4198" y="108"/>
                </a:lnTo>
                <a:lnTo>
                  <a:pt x="4113" y="122"/>
                </a:lnTo>
                <a:lnTo>
                  <a:pt x="4027" y="135"/>
                </a:lnTo>
                <a:lnTo>
                  <a:pt x="3942" y="145"/>
                </a:lnTo>
                <a:lnTo>
                  <a:pt x="3856" y="155"/>
                </a:lnTo>
                <a:lnTo>
                  <a:pt x="3770" y="162"/>
                </a:lnTo>
                <a:lnTo>
                  <a:pt x="3685" y="176"/>
                </a:lnTo>
                <a:lnTo>
                  <a:pt x="3599" y="186"/>
                </a:lnTo>
                <a:lnTo>
                  <a:pt x="3513" y="212"/>
                </a:lnTo>
                <a:lnTo>
                  <a:pt x="3427" y="234"/>
                </a:lnTo>
                <a:lnTo>
                  <a:pt x="3342" y="256"/>
                </a:lnTo>
                <a:lnTo>
                  <a:pt x="3256" y="270"/>
                </a:lnTo>
                <a:lnTo>
                  <a:pt x="3170" y="290"/>
                </a:lnTo>
                <a:lnTo>
                  <a:pt x="3085" y="312"/>
                </a:lnTo>
                <a:lnTo>
                  <a:pt x="2999" y="334"/>
                </a:lnTo>
                <a:lnTo>
                  <a:pt x="2914" y="351"/>
                </a:lnTo>
                <a:lnTo>
                  <a:pt x="2827" y="361"/>
                </a:lnTo>
                <a:lnTo>
                  <a:pt x="2742" y="367"/>
                </a:lnTo>
                <a:lnTo>
                  <a:pt x="2656" y="373"/>
                </a:lnTo>
                <a:lnTo>
                  <a:pt x="2571" y="383"/>
                </a:lnTo>
                <a:lnTo>
                  <a:pt x="2485" y="395"/>
                </a:lnTo>
                <a:lnTo>
                  <a:pt x="2399" y="396"/>
                </a:lnTo>
                <a:lnTo>
                  <a:pt x="2314" y="394"/>
                </a:lnTo>
                <a:lnTo>
                  <a:pt x="2228" y="389"/>
                </a:lnTo>
                <a:lnTo>
                  <a:pt x="2142" y="390"/>
                </a:lnTo>
                <a:lnTo>
                  <a:pt x="2056" y="387"/>
                </a:lnTo>
                <a:lnTo>
                  <a:pt x="1971" y="378"/>
                </a:lnTo>
                <a:lnTo>
                  <a:pt x="1886" y="371"/>
                </a:lnTo>
                <a:lnTo>
                  <a:pt x="1799" y="363"/>
                </a:lnTo>
                <a:lnTo>
                  <a:pt x="1714" y="361"/>
                </a:lnTo>
                <a:lnTo>
                  <a:pt x="1628" y="362"/>
                </a:lnTo>
                <a:lnTo>
                  <a:pt x="1543" y="360"/>
                </a:lnTo>
                <a:lnTo>
                  <a:pt x="1456" y="353"/>
                </a:lnTo>
                <a:lnTo>
                  <a:pt x="1371" y="346"/>
                </a:lnTo>
                <a:lnTo>
                  <a:pt x="1286" y="342"/>
                </a:lnTo>
                <a:lnTo>
                  <a:pt x="1200" y="337"/>
                </a:lnTo>
                <a:lnTo>
                  <a:pt x="1114" y="331"/>
                </a:lnTo>
                <a:lnTo>
                  <a:pt x="1028" y="321"/>
                </a:lnTo>
                <a:lnTo>
                  <a:pt x="943" y="311"/>
                </a:lnTo>
                <a:lnTo>
                  <a:pt x="857" y="303"/>
                </a:lnTo>
                <a:lnTo>
                  <a:pt x="771" y="304"/>
                </a:lnTo>
                <a:lnTo>
                  <a:pt x="685" y="311"/>
                </a:lnTo>
                <a:lnTo>
                  <a:pt x="600" y="313"/>
                </a:lnTo>
                <a:lnTo>
                  <a:pt x="515" y="312"/>
                </a:lnTo>
                <a:lnTo>
                  <a:pt x="428" y="304"/>
                </a:lnTo>
                <a:lnTo>
                  <a:pt x="343" y="300"/>
                </a:lnTo>
                <a:lnTo>
                  <a:pt x="257" y="297"/>
                </a:lnTo>
                <a:lnTo>
                  <a:pt x="172" y="296"/>
                </a:lnTo>
                <a:lnTo>
                  <a:pt x="85" y="290"/>
                </a:lnTo>
                <a:lnTo>
                  <a:pt x="0" y="2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5065560"/>
            <a:ext cx="8161200" cy="1000440"/>
          </a:xfrm>
          <a:custGeom>
            <a:avLst/>
            <a:gdLst/>
            <a:ahLst/>
            <a:rect l="l" t="t" r="r" b="b"/>
            <a:pathLst>
              <a:path w="5141" h="630">
                <a:moveTo>
                  <a:pt x="0" y="630"/>
                </a:moveTo>
                <a:lnTo>
                  <a:pt x="0" y="0"/>
                </a:lnTo>
                <a:lnTo>
                  <a:pt x="85" y="1"/>
                </a:lnTo>
                <a:lnTo>
                  <a:pt x="172" y="1"/>
                </a:lnTo>
                <a:lnTo>
                  <a:pt x="257" y="4"/>
                </a:lnTo>
                <a:lnTo>
                  <a:pt x="343" y="11"/>
                </a:lnTo>
                <a:lnTo>
                  <a:pt x="428" y="18"/>
                </a:lnTo>
                <a:lnTo>
                  <a:pt x="515" y="26"/>
                </a:lnTo>
                <a:lnTo>
                  <a:pt x="600" y="35"/>
                </a:lnTo>
                <a:lnTo>
                  <a:pt x="685" y="46"/>
                </a:lnTo>
                <a:lnTo>
                  <a:pt x="771" y="57"/>
                </a:lnTo>
                <a:lnTo>
                  <a:pt x="857" y="70"/>
                </a:lnTo>
                <a:lnTo>
                  <a:pt x="943" y="83"/>
                </a:lnTo>
                <a:lnTo>
                  <a:pt x="1028" y="95"/>
                </a:lnTo>
                <a:lnTo>
                  <a:pt x="1114" y="102"/>
                </a:lnTo>
                <a:lnTo>
                  <a:pt x="1200" y="106"/>
                </a:lnTo>
                <a:lnTo>
                  <a:pt x="1286" y="108"/>
                </a:lnTo>
                <a:lnTo>
                  <a:pt x="1371" y="116"/>
                </a:lnTo>
                <a:lnTo>
                  <a:pt x="1456" y="130"/>
                </a:lnTo>
                <a:lnTo>
                  <a:pt x="1543" y="141"/>
                </a:lnTo>
                <a:lnTo>
                  <a:pt x="1628" y="145"/>
                </a:lnTo>
                <a:lnTo>
                  <a:pt x="1714" y="147"/>
                </a:lnTo>
                <a:lnTo>
                  <a:pt x="1799" y="152"/>
                </a:lnTo>
                <a:lnTo>
                  <a:pt x="1886" y="163"/>
                </a:lnTo>
                <a:lnTo>
                  <a:pt x="1971" y="175"/>
                </a:lnTo>
                <a:lnTo>
                  <a:pt x="2056" y="179"/>
                </a:lnTo>
                <a:lnTo>
                  <a:pt x="2142" y="190"/>
                </a:lnTo>
                <a:lnTo>
                  <a:pt x="2228" y="204"/>
                </a:lnTo>
                <a:lnTo>
                  <a:pt x="2314" y="226"/>
                </a:lnTo>
                <a:lnTo>
                  <a:pt x="2399" y="239"/>
                </a:lnTo>
                <a:lnTo>
                  <a:pt x="2485" y="253"/>
                </a:lnTo>
                <a:lnTo>
                  <a:pt x="2571" y="271"/>
                </a:lnTo>
                <a:lnTo>
                  <a:pt x="2656" y="278"/>
                </a:lnTo>
                <a:lnTo>
                  <a:pt x="2742" y="290"/>
                </a:lnTo>
                <a:lnTo>
                  <a:pt x="2827" y="302"/>
                </a:lnTo>
                <a:lnTo>
                  <a:pt x="2914" y="323"/>
                </a:lnTo>
                <a:lnTo>
                  <a:pt x="2999" y="337"/>
                </a:lnTo>
                <a:lnTo>
                  <a:pt x="3085" y="342"/>
                </a:lnTo>
                <a:lnTo>
                  <a:pt x="3170" y="348"/>
                </a:lnTo>
                <a:lnTo>
                  <a:pt x="3256" y="347"/>
                </a:lnTo>
                <a:lnTo>
                  <a:pt x="3342" y="346"/>
                </a:lnTo>
                <a:lnTo>
                  <a:pt x="3427" y="344"/>
                </a:lnTo>
                <a:lnTo>
                  <a:pt x="3513" y="346"/>
                </a:lnTo>
                <a:lnTo>
                  <a:pt x="3599" y="355"/>
                </a:lnTo>
                <a:lnTo>
                  <a:pt x="3685" y="363"/>
                </a:lnTo>
                <a:lnTo>
                  <a:pt x="3770" y="370"/>
                </a:lnTo>
                <a:lnTo>
                  <a:pt x="3856" y="371"/>
                </a:lnTo>
                <a:lnTo>
                  <a:pt x="3942" y="366"/>
                </a:lnTo>
                <a:lnTo>
                  <a:pt x="4027" y="360"/>
                </a:lnTo>
                <a:lnTo>
                  <a:pt x="4113" y="359"/>
                </a:lnTo>
                <a:lnTo>
                  <a:pt x="4198" y="360"/>
                </a:lnTo>
                <a:lnTo>
                  <a:pt x="4285" y="359"/>
                </a:lnTo>
                <a:lnTo>
                  <a:pt x="4370" y="358"/>
                </a:lnTo>
                <a:lnTo>
                  <a:pt x="4456" y="356"/>
                </a:lnTo>
                <a:lnTo>
                  <a:pt x="4541" y="347"/>
                </a:lnTo>
                <a:lnTo>
                  <a:pt x="4627" y="338"/>
                </a:lnTo>
                <a:lnTo>
                  <a:pt x="4713" y="342"/>
                </a:lnTo>
                <a:lnTo>
                  <a:pt x="4798" y="354"/>
                </a:lnTo>
                <a:lnTo>
                  <a:pt x="4884" y="366"/>
                </a:lnTo>
                <a:lnTo>
                  <a:pt x="4970" y="363"/>
                </a:lnTo>
                <a:lnTo>
                  <a:pt x="5056" y="356"/>
                </a:lnTo>
                <a:lnTo>
                  <a:pt x="5141" y="347"/>
                </a:lnTo>
                <a:lnTo>
                  <a:pt x="5141" y="630"/>
                </a:lnTo>
                <a:lnTo>
                  <a:pt x="5056" y="630"/>
                </a:lnTo>
                <a:lnTo>
                  <a:pt x="4970" y="630"/>
                </a:lnTo>
                <a:lnTo>
                  <a:pt x="4884" y="630"/>
                </a:lnTo>
                <a:lnTo>
                  <a:pt x="4798" y="630"/>
                </a:lnTo>
                <a:lnTo>
                  <a:pt x="4713" y="630"/>
                </a:lnTo>
                <a:lnTo>
                  <a:pt x="4627" y="630"/>
                </a:lnTo>
                <a:lnTo>
                  <a:pt x="4541" y="630"/>
                </a:lnTo>
                <a:lnTo>
                  <a:pt x="4456" y="630"/>
                </a:lnTo>
                <a:lnTo>
                  <a:pt x="4370" y="630"/>
                </a:lnTo>
                <a:lnTo>
                  <a:pt x="4285" y="630"/>
                </a:lnTo>
                <a:lnTo>
                  <a:pt x="4198" y="630"/>
                </a:lnTo>
                <a:lnTo>
                  <a:pt x="4113" y="630"/>
                </a:lnTo>
                <a:lnTo>
                  <a:pt x="4027" y="630"/>
                </a:lnTo>
                <a:lnTo>
                  <a:pt x="3942" y="630"/>
                </a:lnTo>
                <a:lnTo>
                  <a:pt x="3856" y="630"/>
                </a:lnTo>
                <a:lnTo>
                  <a:pt x="3770" y="630"/>
                </a:lnTo>
                <a:lnTo>
                  <a:pt x="3685" y="630"/>
                </a:lnTo>
                <a:lnTo>
                  <a:pt x="3599" y="630"/>
                </a:lnTo>
                <a:lnTo>
                  <a:pt x="3513" y="630"/>
                </a:lnTo>
                <a:lnTo>
                  <a:pt x="3427" y="630"/>
                </a:lnTo>
                <a:lnTo>
                  <a:pt x="3342" y="630"/>
                </a:lnTo>
                <a:lnTo>
                  <a:pt x="3256" y="630"/>
                </a:lnTo>
                <a:lnTo>
                  <a:pt x="3170" y="630"/>
                </a:lnTo>
                <a:lnTo>
                  <a:pt x="3085" y="630"/>
                </a:lnTo>
                <a:lnTo>
                  <a:pt x="2999" y="630"/>
                </a:lnTo>
                <a:lnTo>
                  <a:pt x="2914" y="630"/>
                </a:lnTo>
                <a:lnTo>
                  <a:pt x="2827" y="630"/>
                </a:lnTo>
                <a:lnTo>
                  <a:pt x="2742" y="630"/>
                </a:lnTo>
                <a:lnTo>
                  <a:pt x="2656" y="630"/>
                </a:lnTo>
                <a:lnTo>
                  <a:pt x="2571" y="630"/>
                </a:lnTo>
                <a:lnTo>
                  <a:pt x="2485" y="630"/>
                </a:lnTo>
                <a:lnTo>
                  <a:pt x="2399" y="630"/>
                </a:lnTo>
                <a:lnTo>
                  <a:pt x="2314" y="630"/>
                </a:lnTo>
                <a:lnTo>
                  <a:pt x="2228" y="630"/>
                </a:lnTo>
                <a:lnTo>
                  <a:pt x="2142" y="630"/>
                </a:lnTo>
                <a:lnTo>
                  <a:pt x="2056" y="630"/>
                </a:lnTo>
                <a:lnTo>
                  <a:pt x="1971" y="630"/>
                </a:lnTo>
                <a:lnTo>
                  <a:pt x="1886" y="630"/>
                </a:lnTo>
                <a:lnTo>
                  <a:pt x="1799" y="630"/>
                </a:lnTo>
                <a:lnTo>
                  <a:pt x="1714" y="630"/>
                </a:lnTo>
                <a:lnTo>
                  <a:pt x="1628" y="630"/>
                </a:lnTo>
                <a:lnTo>
                  <a:pt x="1543" y="630"/>
                </a:lnTo>
                <a:lnTo>
                  <a:pt x="1456" y="630"/>
                </a:lnTo>
                <a:lnTo>
                  <a:pt x="1371" y="630"/>
                </a:lnTo>
                <a:lnTo>
                  <a:pt x="1286" y="630"/>
                </a:lnTo>
                <a:lnTo>
                  <a:pt x="1200" y="630"/>
                </a:lnTo>
                <a:lnTo>
                  <a:pt x="1114" y="630"/>
                </a:lnTo>
                <a:lnTo>
                  <a:pt x="1028" y="630"/>
                </a:lnTo>
                <a:lnTo>
                  <a:pt x="943" y="630"/>
                </a:lnTo>
                <a:lnTo>
                  <a:pt x="857" y="630"/>
                </a:lnTo>
                <a:lnTo>
                  <a:pt x="771" y="630"/>
                </a:lnTo>
                <a:lnTo>
                  <a:pt x="685" y="630"/>
                </a:lnTo>
                <a:lnTo>
                  <a:pt x="600" y="630"/>
                </a:lnTo>
                <a:lnTo>
                  <a:pt x="515" y="630"/>
                </a:lnTo>
                <a:lnTo>
                  <a:pt x="428" y="630"/>
                </a:lnTo>
                <a:lnTo>
                  <a:pt x="343" y="630"/>
                </a:lnTo>
                <a:lnTo>
                  <a:pt x="257" y="630"/>
                </a:lnTo>
                <a:lnTo>
                  <a:pt x="172" y="630"/>
                </a:lnTo>
                <a:lnTo>
                  <a:pt x="85" y="630"/>
                </a:lnTo>
                <a:lnTo>
                  <a:pt x="0" y="63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010040"/>
            <a:ext cx="8161200" cy="1644480"/>
          </a:xfrm>
          <a:custGeom>
            <a:avLst/>
            <a:gdLst/>
            <a:ahLst/>
            <a:rect l="l" t="t" r="r" b="b"/>
            <a:pathLst>
              <a:path w="5141" h="1036">
                <a:moveTo>
                  <a:pt x="0" y="665"/>
                </a:moveTo>
                <a:lnTo>
                  <a:pt x="0" y="0"/>
                </a:lnTo>
                <a:lnTo>
                  <a:pt x="85" y="2"/>
                </a:lnTo>
                <a:lnTo>
                  <a:pt x="172" y="7"/>
                </a:lnTo>
                <a:lnTo>
                  <a:pt x="257" y="13"/>
                </a:lnTo>
                <a:lnTo>
                  <a:pt x="343" y="23"/>
                </a:lnTo>
                <a:lnTo>
                  <a:pt x="428" y="33"/>
                </a:lnTo>
                <a:lnTo>
                  <a:pt x="515" y="43"/>
                </a:lnTo>
                <a:lnTo>
                  <a:pt x="600" y="58"/>
                </a:lnTo>
                <a:lnTo>
                  <a:pt x="685" y="75"/>
                </a:lnTo>
                <a:lnTo>
                  <a:pt x="771" y="95"/>
                </a:lnTo>
                <a:lnTo>
                  <a:pt x="857" y="119"/>
                </a:lnTo>
                <a:lnTo>
                  <a:pt x="943" y="143"/>
                </a:lnTo>
                <a:lnTo>
                  <a:pt x="1028" y="164"/>
                </a:lnTo>
                <a:lnTo>
                  <a:pt x="1114" y="181"/>
                </a:lnTo>
                <a:lnTo>
                  <a:pt x="1200" y="195"/>
                </a:lnTo>
                <a:lnTo>
                  <a:pt x="1286" y="210"/>
                </a:lnTo>
                <a:lnTo>
                  <a:pt x="1371" y="227"/>
                </a:lnTo>
                <a:lnTo>
                  <a:pt x="1456" y="250"/>
                </a:lnTo>
                <a:lnTo>
                  <a:pt x="1543" y="266"/>
                </a:lnTo>
                <a:lnTo>
                  <a:pt x="1628" y="276"/>
                </a:lnTo>
                <a:lnTo>
                  <a:pt x="1714" y="281"/>
                </a:lnTo>
                <a:lnTo>
                  <a:pt x="1799" y="295"/>
                </a:lnTo>
                <a:lnTo>
                  <a:pt x="1886" y="314"/>
                </a:lnTo>
                <a:lnTo>
                  <a:pt x="1971" y="335"/>
                </a:lnTo>
                <a:lnTo>
                  <a:pt x="2056" y="345"/>
                </a:lnTo>
                <a:lnTo>
                  <a:pt x="2142" y="359"/>
                </a:lnTo>
                <a:lnTo>
                  <a:pt x="2228" y="375"/>
                </a:lnTo>
                <a:lnTo>
                  <a:pt x="2314" y="398"/>
                </a:lnTo>
                <a:lnTo>
                  <a:pt x="2399" y="415"/>
                </a:lnTo>
                <a:lnTo>
                  <a:pt x="2485" y="433"/>
                </a:lnTo>
                <a:lnTo>
                  <a:pt x="2571" y="448"/>
                </a:lnTo>
                <a:lnTo>
                  <a:pt x="2656" y="460"/>
                </a:lnTo>
                <a:lnTo>
                  <a:pt x="2742" y="467"/>
                </a:lnTo>
                <a:lnTo>
                  <a:pt x="2827" y="485"/>
                </a:lnTo>
                <a:lnTo>
                  <a:pt x="2914" y="510"/>
                </a:lnTo>
                <a:lnTo>
                  <a:pt x="2999" y="528"/>
                </a:lnTo>
                <a:lnTo>
                  <a:pt x="3085" y="530"/>
                </a:lnTo>
                <a:lnTo>
                  <a:pt x="3170" y="525"/>
                </a:lnTo>
                <a:lnTo>
                  <a:pt x="3256" y="523"/>
                </a:lnTo>
                <a:lnTo>
                  <a:pt x="3342" y="521"/>
                </a:lnTo>
                <a:lnTo>
                  <a:pt x="3427" y="521"/>
                </a:lnTo>
                <a:lnTo>
                  <a:pt x="3513" y="518"/>
                </a:lnTo>
                <a:lnTo>
                  <a:pt x="3599" y="516"/>
                </a:lnTo>
                <a:lnTo>
                  <a:pt x="3685" y="510"/>
                </a:lnTo>
                <a:lnTo>
                  <a:pt x="3770" y="500"/>
                </a:lnTo>
                <a:lnTo>
                  <a:pt x="3856" y="488"/>
                </a:lnTo>
                <a:lnTo>
                  <a:pt x="3942" y="476"/>
                </a:lnTo>
                <a:lnTo>
                  <a:pt x="4027" y="474"/>
                </a:lnTo>
                <a:lnTo>
                  <a:pt x="4113" y="479"/>
                </a:lnTo>
                <a:lnTo>
                  <a:pt x="4198" y="478"/>
                </a:lnTo>
                <a:lnTo>
                  <a:pt x="4285" y="471"/>
                </a:lnTo>
                <a:lnTo>
                  <a:pt x="4370" y="458"/>
                </a:lnTo>
                <a:lnTo>
                  <a:pt x="4456" y="458"/>
                </a:lnTo>
                <a:lnTo>
                  <a:pt x="4541" y="465"/>
                </a:lnTo>
                <a:lnTo>
                  <a:pt x="4627" y="477"/>
                </a:lnTo>
                <a:lnTo>
                  <a:pt x="4713" y="485"/>
                </a:lnTo>
                <a:lnTo>
                  <a:pt x="4798" y="498"/>
                </a:lnTo>
                <a:lnTo>
                  <a:pt x="4884" y="500"/>
                </a:lnTo>
                <a:lnTo>
                  <a:pt x="4970" y="505"/>
                </a:lnTo>
                <a:lnTo>
                  <a:pt x="5056" y="508"/>
                </a:lnTo>
                <a:lnTo>
                  <a:pt x="5141" y="518"/>
                </a:lnTo>
                <a:lnTo>
                  <a:pt x="5141" y="1012"/>
                </a:lnTo>
                <a:lnTo>
                  <a:pt x="5056" y="1021"/>
                </a:lnTo>
                <a:lnTo>
                  <a:pt x="4970" y="1028"/>
                </a:lnTo>
                <a:lnTo>
                  <a:pt x="4884" y="1031"/>
                </a:lnTo>
                <a:lnTo>
                  <a:pt x="4798" y="1019"/>
                </a:lnTo>
                <a:lnTo>
                  <a:pt x="4713" y="1007"/>
                </a:lnTo>
                <a:lnTo>
                  <a:pt x="4627" y="1003"/>
                </a:lnTo>
                <a:lnTo>
                  <a:pt x="4541" y="1012"/>
                </a:lnTo>
                <a:lnTo>
                  <a:pt x="4456" y="1021"/>
                </a:lnTo>
                <a:lnTo>
                  <a:pt x="4370" y="1023"/>
                </a:lnTo>
                <a:lnTo>
                  <a:pt x="4285" y="1024"/>
                </a:lnTo>
                <a:lnTo>
                  <a:pt x="4198" y="1025"/>
                </a:lnTo>
                <a:lnTo>
                  <a:pt x="4113" y="1024"/>
                </a:lnTo>
                <a:lnTo>
                  <a:pt x="4027" y="1025"/>
                </a:lnTo>
                <a:lnTo>
                  <a:pt x="3942" y="1031"/>
                </a:lnTo>
                <a:lnTo>
                  <a:pt x="3856" y="1036"/>
                </a:lnTo>
                <a:lnTo>
                  <a:pt x="3770" y="1035"/>
                </a:lnTo>
                <a:lnTo>
                  <a:pt x="3685" y="1028"/>
                </a:lnTo>
                <a:lnTo>
                  <a:pt x="3599" y="1020"/>
                </a:lnTo>
                <a:lnTo>
                  <a:pt x="3513" y="1011"/>
                </a:lnTo>
                <a:lnTo>
                  <a:pt x="3427" y="1009"/>
                </a:lnTo>
                <a:lnTo>
                  <a:pt x="3342" y="1011"/>
                </a:lnTo>
                <a:lnTo>
                  <a:pt x="3256" y="1012"/>
                </a:lnTo>
                <a:lnTo>
                  <a:pt x="3170" y="1013"/>
                </a:lnTo>
                <a:lnTo>
                  <a:pt x="3085" y="1007"/>
                </a:lnTo>
                <a:lnTo>
                  <a:pt x="2999" y="1002"/>
                </a:lnTo>
                <a:lnTo>
                  <a:pt x="2914" y="988"/>
                </a:lnTo>
                <a:lnTo>
                  <a:pt x="2827" y="967"/>
                </a:lnTo>
                <a:lnTo>
                  <a:pt x="2742" y="955"/>
                </a:lnTo>
                <a:lnTo>
                  <a:pt x="2656" y="943"/>
                </a:lnTo>
                <a:lnTo>
                  <a:pt x="2571" y="936"/>
                </a:lnTo>
                <a:lnTo>
                  <a:pt x="2485" y="918"/>
                </a:lnTo>
                <a:lnTo>
                  <a:pt x="2399" y="904"/>
                </a:lnTo>
                <a:lnTo>
                  <a:pt x="2314" y="891"/>
                </a:lnTo>
                <a:lnTo>
                  <a:pt x="2228" y="869"/>
                </a:lnTo>
                <a:lnTo>
                  <a:pt x="2142" y="855"/>
                </a:lnTo>
                <a:lnTo>
                  <a:pt x="2056" y="844"/>
                </a:lnTo>
                <a:lnTo>
                  <a:pt x="1971" y="840"/>
                </a:lnTo>
                <a:lnTo>
                  <a:pt x="1886" y="828"/>
                </a:lnTo>
                <a:lnTo>
                  <a:pt x="1799" y="817"/>
                </a:lnTo>
                <a:lnTo>
                  <a:pt x="1714" y="812"/>
                </a:lnTo>
                <a:lnTo>
                  <a:pt x="1628" y="810"/>
                </a:lnTo>
                <a:lnTo>
                  <a:pt x="1543" y="806"/>
                </a:lnTo>
                <a:lnTo>
                  <a:pt x="1456" y="795"/>
                </a:lnTo>
                <a:lnTo>
                  <a:pt x="1371" y="781"/>
                </a:lnTo>
                <a:lnTo>
                  <a:pt x="1286" y="773"/>
                </a:lnTo>
                <a:lnTo>
                  <a:pt x="1200" y="771"/>
                </a:lnTo>
                <a:lnTo>
                  <a:pt x="1114" y="767"/>
                </a:lnTo>
                <a:lnTo>
                  <a:pt x="1028" y="760"/>
                </a:lnTo>
                <a:lnTo>
                  <a:pt x="943" y="748"/>
                </a:lnTo>
                <a:lnTo>
                  <a:pt x="857" y="735"/>
                </a:lnTo>
                <a:lnTo>
                  <a:pt x="771" y="722"/>
                </a:lnTo>
                <a:lnTo>
                  <a:pt x="685" y="711"/>
                </a:lnTo>
                <a:lnTo>
                  <a:pt x="600" y="700"/>
                </a:lnTo>
                <a:lnTo>
                  <a:pt x="515" y="691"/>
                </a:lnTo>
                <a:lnTo>
                  <a:pt x="428" y="683"/>
                </a:lnTo>
                <a:lnTo>
                  <a:pt x="343" y="676"/>
                </a:lnTo>
                <a:lnTo>
                  <a:pt x="257" y="669"/>
                </a:lnTo>
                <a:lnTo>
                  <a:pt x="172" y="666"/>
                </a:lnTo>
                <a:lnTo>
                  <a:pt x="85" y="666"/>
                </a:lnTo>
                <a:lnTo>
                  <a:pt x="0" y="66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014640"/>
            <a:ext cx="8161200" cy="1836720"/>
          </a:xfrm>
          <a:custGeom>
            <a:avLst/>
            <a:gdLst/>
            <a:ahLst/>
            <a:rect l="l" t="t" r="r" b="b"/>
            <a:pathLst>
              <a:path w="5141" h="1157">
                <a:moveTo>
                  <a:pt x="0" y="627"/>
                </a:moveTo>
                <a:lnTo>
                  <a:pt x="0" y="31"/>
                </a:lnTo>
                <a:lnTo>
                  <a:pt x="85" y="33"/>
                </a:lnTo>
                <a:lnTo>
                  <a:pt x="172" y="39"/>
                </a:lnTo>
                <a:lnTo>
                  <a:pt x="257" y="47"/>
                </a:lnTo>
                <a:lnTo>
                  <a:pt x="343" y="57"/>
                </a:lnTo>
                <a:lnTo>
                  <a:pt x="428" y="68"/>
                </a:lnTo>
                <a:lnTo>
                  <a:pt x="515" y="79"/>
                </a:lnTo>
                <a:lnTo>
                  <a:pt x="600" y="93"/>
                </a:lnTo>
                <a:lnTo>
                  <a:pt x="685" y="109"/>
                </a:lnTo>
                <a:lnTo>
                  <a:pt x="771" y="128"/>
                </a:lnTo>
                <a:lnTo>
                  <a:pt x="857" y="146"/>
                </a:lnTo>
                <a:lnTo>
                  <a:pt x="943" y="164"/>
                </a:lnTo>
                <a:lnTo>
                  <a:pt x="1028" y="181"/>
                </a:lnTo>
                <a:lnTo>
                  <a:pt x="1114" y="195"/>
                </a:lnTo>
                <a:lnTo>
                  <a:pt x="1200" y="210"/>
                </a:lnTo>
                <a:lnTo>
                  <a:pt x="1286" y="226"/>
                </a:lnTo>
                <a:lnTo>
                  <a:pt x="1371" y="243"/>
                </a:lnTo>
                <a:lnTo>
                  <a:pt x="1456" y="264"/>
                </a:lnTo>
                <a:lnTo>
                  <a:pt x="1543" y="279"/>
                </a:lnTo>
                <a:lnTo>
                  <a:pt x="1628" y="285"/>
                </a:lnTo>
                <a:lnTo>
                  <a:pt x="1714" y="284"/>
                </a:lnTo>
                <a:lnTo>
                  <a:pt x="1799" y="295"/>
                </a:lnTo>
                <a:lnTo>
                  <a:pt x="1886" y="312"/>
                </a:lnTo>
                <a:lnTo>
                  <a:pt x="1971" y="332"/>
                </a:lnTo>
                <a:lnTo>
                  <a:pt x="2056" y="340"/>
                </a:lnTo>
                <a:lnTo>
                  <a:pt x="2142" y="352"/>
                </a:lnTo>
                <a:lnTo>
                  <a:pt x="2228" y="360"/>
                </a:lnTo>
                <a:lnTo>
                  <a:pt x="2314" y="375"/>
                </a:lnTo>
                <a:lnTo>
                  <a:pt x="2399" y="384"/>
                </a:lnTo>
                <a:lnTo>
                  <a:pt x="2485" y="392"/>
                </a:lnTo>
                <a:lnTo>
                  <a:pt x="2571" y="386"/>
                </a:lnTo>
                <a:lnTo>
                  <a:pt x="2656" y="379"/>
                </a:lnTo>
                <a:lnTo>
                  <a:pt x="2742" y="368"/>
                </a:lnTo>
                <a:lnTo>
                  <a:pt x="2827" y="373"/>
                </a:lnTo>
                <a:lnTo>
                  <a:pt x="2914" y="372"/>
                </a:lnTo>
                <a:lnTo>
                  <a:pt x="2999" y="370"/>
                </a:lnTo>
                <a:lnTo>
                  <a:pt x="3085" y="354"/>
                </a:lnTo>
                <a:lnTo>
                  <a:pt x="3170" y="336"/>
                </a:lnTo>
                <a:lnTo>
                  <a:pt x="3256" y="312"/>
                </a:lnTo>
                <a:lnTo>
                  <a:pt x="3342" y="286"/>
                </a:lnTo>
                <a:lnTo>
                  <a:pt x="3427" y="253"/>
                </a:lnTo>
                <a:lnTo>
                  <a:pt x="3513" y="212"/>
                </a:lnTo>
                <a:lnTo>
                  <a:pt x="3599" y="172"/>
                </a:lnTo>
                <a:lnTo>
                  <a:pt x="3685" y="145"/>
                </a:lnTo>
                <a:lnTo>
                  <a:pt x="3770" y="115"/>
                </a:lnTo>
                <a:lnTo>
                  <a:pt x="3856" y="90"/>
                </a:lnTo>
                <a:lnTo>
                  <a:pt x="3942" y="61"/>
                </a:lnTo>
                <a:lnTo>
                  <a:pt x="4027" y="43"/>
                </a:lnTo>
                <a:lnTo>
                  <a:pt x="4113" y="25"/>
                </a:lnTo>
                <a:lnTo>
                  <a:pt x="4198" y="8"/>
                </a:lnTo>
                <a:lnTo>
                  <a:pt x="4285" y="0"/>
                </a:lnTo>
                <a:lnTo>
                  <a:pt x="4370" y="1"/>
                </a:lnTo>
                <a:lnTo>
                  <a:pt x="4456" y="11"/>
                </a:lnTo>
                <a:lnTo>
                  <a:pt x="4541" y="21"/>
                </a:lnTo>
                <a:lnTo>
                  <a:pt x="4627" y="32"/>
                </a:lnTo>
                <a:lnTo>
                  <a:pt x="4713" y="43"/>
                </a:lnTo>
                <a:lnTo>
                  <a:pt x="4798" y="49"/>
                </a:lnTo>
                <a:lnTo>
                  <a:pt x="4884" y="48"/>
                </a:lnTo>
                <a:lnTo>
                  <a:pt x="4970" y="44"/>
                </a:lnTo>
                <a:lnTo>
                  <a:pt x="5056" y="41"/>
                </a:lnTo>
                <a:lnTo>
                  <a:pt x="5141" y="39"/>
                </a:lnTo>
                <a:lnTo>
                  <a:pt x="5141" y="1145"/>
                </a:lnTo>
                <a:lnTo>
                  <a:pt x="5056" y="1135"/>
                </a:lnTo>
                <a:lnTo>
                  <a:pt x="4970" y="1132"/>
                </a:lnTo>
                <a:lnTo>
                  <a:pt x="4884" y="1127"/>
                </a:lnTo>
                <a:lnTo>
                  <a:pt x="4798" y="1125"/>
                </a:lnTo>
                <a:lnTo>
                  <a:pt x="4713" y="1112"/>
                </a:lnTo>
                <a:lnTo>
                  <a:pt x="4627" y="1104"/>
                </a:lnTo>
                <a:lnTo>
                  <a:pt x="4541" y="1092"/>
                </a:lnTo>
                <a:lnTo>
                  <a:pt x="4456" y="1085"/>
                </a:lnTo>
                <a:lnTo>
                  <a:pt x="4370" y="1085"/>
                </a:lnTo>
                <a:lnTo>
                  <a:pt x="4285" y="1098"/>
                </a:lnTo>
                <a:lnTo>
                  <a:pt x="4198" y="1105"/>
                </a:lnTo>
                <a:lnTo>
                  <a:pt x="4113" y="1106"/>
                </a:lnTo>
                <a:lnTo>
                  <a:pt x="4027" y="1101"/>
                </a:lnTo>
                <a:lnTo>
                  <a:pt x="3942" y="1103"/>
                </a:lnTo>
                <a:lnTo>
                  <a:pt x="3856" y="1115"/>
                </a:lnTo>
                <a:lnTo>
                  <a:pt x="3770" y="1127"/>
                </a:lnTo>
                <a:lnTo>
                  <a:pt x="3685" y="1137"/>
                </a:lnTo>
                <a:lnTo>
                  <a:pt x="3599" y="1143"/>
                </a:lnTo>
                <a:lnTo>
                  <a:pt x="3513" y="1145"/>
                </a:lnTo>
                <a:lnTo>
                  <a:pt x="3427" y="1148"/>
                </a:lnTo>
                <a:lnTo>
                  <a:pt x="3342" y="1148"/>
                </a:lnTo>
                <a:lnTo>
                  <a:pt x="3256" y="1150"/>
                </a:lnTo>
                <a:lnTo>
                  <a:pt x="3170" y="1152"/>
                </a:lnTo>
                <a:lnTo>
                  <a:pt x="3085" y="1157"/>
                </a:lnTo>
                <a:lnTo>
                  <a:pt x="2999" y="1155"/>
                </a:lnTo>
                <a:lnTo>
                  <a:pt x="2914" y="1137"/>
                </a:lnTo>
                <a:lnTo>
                  <a:pt x="2827" y="1112"/>
                </a:lnTo>
                <a:lnTo>
                  <a:pt x="2742" y="1094"/>
                </a:lnTo>
                <a:lnTo>
                  <a:pt x="2656" y="1087"/>
                </a:lnTo>
                <a:lnTo>
                  <a:pt x="2571" y="1075"/>
                </a:lnTo>
                <a:lnTo>
                  <a:pt x="2485" y="1060"/>
                </a:lnTo>
                <a:lnTo>
                  <a:pt x="2399" y="1042"/>
                </a:lnTo>
                <a:lnTo>
                  <a:pt x="2314" y="1025"/>
                </a:lnTo>
                <a:lnTo>
                  <a:pt x="2228" y="1002"/>
                </a:lnTo>
                <a:lnTo>
                  <a:pt x="2142" y="986"/>
                </a:lnTo>
                <a:lnTo>
                  <a:pt x="2056" y="972"/>
                </a:lnTo>
                <a:lnTo>
                  <a:pt x="1971" y="962"/>
                </a:lnTo>
                <a:lnTo>
                  <a:pt x="1886" y="941"/>
                </a:lnTo>
                <a:lnTo>
                  <a:pt x="1799" y="922"/>
                </a:lnTo>
                <a:lnTo>
                  <a:pt x="1714" y="908"/>
                </a:lnTo>
                <a:lnTo>
                  <a:pt x="1628" y="903"/>
                </a:lnTo>
                <a:lnTo>
                  <a:pt x="1543" y="893"/>
                </a:lnTo>
                <a:lnTo>
                  <a:pt x="1456" y="877"/>
                </a:lnTo>
                <a:lnTo>
                  <a:pt x="1371" y="854"/>
                </a:lnTo>
                <a:lnTo>
                  <a:pt x="1286" y="837"/>
                </a:lnTo>
                <a:lnTo>
                  <a:pt x="1200" y="822"/>
                </a:lnTo>
                <a:lnTo>
                  <a:pt x="1114" y="808"/>
                </a:lnTo>
                <a:lnTo>
                  <a:pt x="1028" y="791"/>
                </a:lnTo>
                <a:lnTo>
                  <a:pt x="943" y="770"/>
                </a:lnTo>
                <a:lnTo>
                  <a:pt x="857" y="746"/>
                </a:lnTo>
                <a:lnTo>
                  <a:pt x="771" y="722"/>
                </a:lnTo>
                <a:lnTo>
                  <a:pt x="685" y="702"/>
                </a:lnTo>
                <a:lnTo>
                  <a:pt x="600" y="685"/>
                </a:lnTo>
                <a:lnTo>
                  <a:pt x="515" y="670"/>
                </a:lnTo>
                <a:lnTo>
                  <a:pt x="428" y="660"/>
                </a:lnTo>
                <a:lnTo>
                  <a:pt x="343" y="650"/>
                </a:lnTo>
                <a:lnTo>
                  <a:pt x="257" y="640"/>
                </a:lnTo>
                <a:lnTo>
                  <a:pt x="172" y="634"/>
                </a:lnTo>
                <a:lnTo>
                  <a:pt x="85" y="629"/>
                </a:lnTo>
                <a:lnTo>
                  <a:pt x="0" y="62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114640"/>
            <a:ext cx="8161200" cy="1522440"/>
          </a:xfrm>
          <a:custGeom>
            <a:avLst/>
            <a:gdLst/>
            <a:ahLst/>
            <a:rect l="l" t="t" r="r" b="b"/>
            <a:pathLst>
              <a:path w="5141" h="959">
                <a:moveTo>
                  <a:pt x="0" y="598"/>
                </a:moveTo>
                <a:lnTo>
                  <a:pt x="0" y="242"/>
                </a:lnTo>
                <a:lnTo>
                  <a:pt x="85" y="246"/>
                </a:lnTo>
                <a:lnTo>
                  <a:pt x="172" y="252"/>
                </a:lnTo>
                <a:lnTo>
                  <a:pt x="257" y="259"/>
                </a:lnTo>
                <a:lnTo>
                  <a:pt x="343" y="266"/>
                </a:lnTo>
                <a:lnTo>
                  <a:pt x="428" y="274"/>
                </a:lnTo>
                <a:lnTo>
                  <a:pt x="515" y="281"/>
                </a:lnTo>
                <a:lnTo>
                  <a:pt x="600" y="290"/>
                </a:lnTo>
                <a:lnTo>
                  <a:pt x="685" y="300"/>
                </a:lnTo>
                <a:lnTo>
                  <a:pt x="771" y="310"/>
                </a:lnTo>
                <a:lnTo>
                  <a:pt x="857" y="321"/>
                </a:lnTo>
                <a:lnTo>
                  <a:pt x="943" y="328"/>
                </a:lnTo>
                <a:lnTo>
                  <a:pt x="1028" y="333"/>
                </a:lnTo>
                <a:lnTo>
                  <a:pt x="1114" y="337"/>
                </a:lnTo>
                <a:lnTo>
                  <a:pt x="1200" y="342"/>
                </a:lnTo>
                <a:lnTo>
                  <a:pt x="1286" y="349"/>
                </a:lnTo>
                <a:lnTo>
                  <a:pt x="1371" y="359"/>
                </a:lnTo>
                <a:lnTo>
                  <a:pt x="1456" y="372"/>
                </a:lnTo>
                <a:lnTo>
                  <a:pt x="1543" y="380"/>
                </a:lnTo>
                <a:lnTo>
                  <a:pt x="1628" y="380"/>
                </a:lnTo>
                <a:lnTo>
                  <a:pt x="1714" y="377"/>
                </a:lnTo>
                <a:lnTo>
                  <a:pt x="1799" y="379"/>
                </a:lnTo>
                <a:lnTo>
                  <a:pt x="1886" y="392"/>
                </a:lnTo>
                <a:lnTo>
                  <a:pt x="1971" y="407"/>
                </a:lnTo>
                <a:lnTo>
                  <a:pt x="2056" y="421"/>
                </a:lnTo>
                <a:lnTo>
                  <a:pt x="2142" y="427"/>
                </a:lnTo>
                <a:lnTo>
                  <a:pt x="2228" y="427"/>
                </a:lnTo>
                <a:lnTo>
                  <a:pt x="2314" y="434"/>
                </a:lnTo>
                <a:lnTo>
                  <a:pt x="2399" y="442"/>
                </a:lnTo>
                <a:lnTo>
                  <a:pt x="2485" y="443"/>
                </a:lnTo>
                <a:lnTo>
                  <a:pt x="2571" y="429"/>
                </a:lnTo>
                <a:lnTo>
                  <a:pt x="2656" y="413"/>
                </a:lnTo>
                <a:lnTo>
                  <a:pt x="2742" y="404"/>
                </a:lnTo>
                <a:lnTo>
                  <a:pt x="2827" y="394"/>
                </a:lnTo>
                <a:lnTo>
                  <a:pt x="2914" y="382"/>
                </a:lnTo>
                <a:lnTo>
                  <a:pt x="2999" y="364"/>
                </a:lnTo>
                <a:lnTo>
                  <a:pt x="3085" y="341"/>
                </a:lnTo>
                <a:lnTo>
                  <a:pt x="3170" y="317"/>
                </a:lnTo>
                <a:lnTo>
                  <a:pt x="3256" y="289"/>
                </a:lnTo>
                <a:lnTo>
                  <a:pt x="3342" y="265"/>
                </a:lnTo>
                <a:lnTo>
                  <a:pt x="3427" y="228"/>
                </a:lnTo>
                <a:lnTo>
                  <a:pt x="3513" y="195"/>
                </a:lnTo>
                <a:lnTo>
                  <a:pt x="3599" y="157"/>
                </a:lnTo>
                <a:lnTo>
                  <a:pt x="3685" y="136"/>
                </a:lnTo>
                <a:lnTo>
                  <a:pt x="3770" y="110"/>
                </a:lnTo>
                <a:lnTo>
                  <a:pt x="3856" y="90"/>
                </a:lnTo>
                <a:lnTo>
                  <a:pt x="3942" y="69"/>
                </a:lnTo>
                <a:lnTo>
                  <a:pt x="4027" y="51"/>
                </a:lnTo>
                <a:lnTo>
                  <a:pt x="4113" y="34"/>
                </a:lnTo>
                <a:lnTo>
                  <a:pt x="4198" y="14"/>
                </a:lnTo>
                <a:lnTo>
                  <a:pt x="4285" y="5"/>
                </a:lnTo>
                <a:lnTo>
                  <a:pt x="4370" y="0"/>
                </a:lnTo>
                <a:lnTo>
                  <a:pt x="4456" y="2"/>
                </a:lnTo>
                <a:lnTo>
                  <a:pt x="4541" y="5"/>
                </a:lnTo>
                <a:lnTo>
                  <a:pt x="4627" y="11"/>
                </a:lnTo>
                <a:lnTo>
                  <a:pt x="4713" y="14"/>
                </a:lnTo>
                <a:lnTo>
                  <a:pt x="4798" y="15"/>
                </a:lnTo>
                <a:lnTo>
                  <a:pt x="4884" y="11"/>
                </a:lnTo>
                <a:lnTo>
                  <a:pt x="4970" y="8"/>
                </a:lnTo>
                <a:lnTo>
                  <a:pt x="5056" y="3"/>
                </a:lnTo>
                <a:lnTo>
                  <a:pt x="5141" y="1"/>
                </a:lnTo>
                <a:lnTo>
                  <a:pt x="5141" y="606"/>
                </a:lnTo>
                <a:lnTo>
                  <a:pt x="5056" y="608"/>
                </a:lnTo>
                <a:lnTo>
                  <a:pt x="4970" y="611"/>
                </a:lnTo>
                <a:lnTo>
                  <a:pt x="4884" y="615"/>
                </a:lnTo>
                <a:lnTo>
                  <a:pt x="4798" y="616"/>
                </a:lnTo>
                <a:lnTo>
                  <a:pt x="4713" y="610"/>
                </a:lnTo>
                <a:lnTo>
                  <a:pt x="4627" y="599"/>
                </a:lnTo>
                <a:lnTo>
                  <a:pt x="4541" y="588"/>
                </a:lnTo>
                <a:lnTo>
                  <a:pt x="4456" y="578"/>
                </a:lnTo>
                <a:lnTo>
                  <a:pt x="4370" y="568"/>
                </a:lnTo>
                <a:lnTo>
                  <a:pt x="4285" y="567"/>
                </a:lnTo>
                <a:lnTo>
                  <a:pt x="4198" y="575"/>
                </a:lnTo>
                <a:lnTo>
                  <a:pt x="4113" y="592"/>
                </a:lnTo>
                <a:lnTo>
                  <a:pt x="4027" y="610"/>
                </a:lnTo>
                <a:lnTo>
                  <a:pt x="3942" y="628"/>
                </a:lnTo>
                <a:lnTo>
                  <a:pt x="3856" y="657"/>
                </a:lnTo>
                <a:lnTo>
                  <a:pt x="3770" y="682"/>
                </a:lnTo>
                <a:lnTo>
                  <a:pt x="3685" y="712"/>
                </a:lnTo>
                <a:lnTo>
                  <a:pt x="3599" y="739"/>
                </a:lnTo>
                <a:lnTo>
                  <a:pt x="3513" y="779"/>
                </a:lnTo>
                <a:lnTo>
                  <a:pt x="3427" y="820"/>
                </a:lnTo>
                <a:lnTo>
                  <a:pt x="3342" y="853"/>
                </a:lnTo>
                <a:lnTo>
                  <a:pt x="3256" y="879"/>
                </a:lnTo>
                <a:lnTo>
                  <a:pt x="3170" y="903"/>
                </a:lnTo>
                <a:lnTo>
                  <a:pt x="3085" y="921"/>
                </a:lnTo>
                <a:lnTo>
                  <a:pt x="2999" y="937"/>
                </a:lnTo>
                <a:lnTo>
                  <a:pt x="2914" y="939"/>
                </a:lnTo>
                <a:lnTo>
                  <a:pt x="2827" y="940"/>
                </a:lnTo>
                <a:lnTo>
                  <a:pt x="2742" y="935"/>
                </a:lnTo>
                <a:lnTo>
                  <a:pt x="2656" y="946"/>
                </a:lnTo>
                <a:lnTo>
                  <a:pt x="2571" y="953"/>
                </a:lnTo>
                <a:lnTo>
                  <a:pt x="2485" y="959"/>
                </a:lnTo>
                <a:lnTo>
                  <a:pt x="2399" y="951"/>
                </a:lnTo>
                <a:lnTo>
                  <a:pt x="2314" y="942"/>
                </a:lnTo>
                <a:lnTo>
                  <a:pt x="2228" y="927"/>
                </a:lnTo>
                <a:lnTo>
                  <a:pt x="2142" y="919"/>
                </a:lnTo>
                <a:lnTo>
                  <a:pt x="2056" y="907"/>
                </a:lnTo>
                <a:lnTo>
                  <a:pt x="1971" y="899"/>
                </a:lnTo>
                <a:lnTo>
                  <a:pt x="1886" y="879"/>
                </a:lnTo>
                <a:lnTo>
                  <a:pt x="1799" y="862"/>
                </a:lnTo>
                <a:lnTo>
                  <a:pt x="1714" y="851"/>
                </a:lnTo>
                <a:lnTo>
                  <a:pt x="1628" y="852"/>
                </a:lnTo>
                <a:lnTo>
                  <a:pt x="1543" y="846"/>
                </a:lnTo>
                <a:lnTo>
                  <a:pt x="1456" y="831"/>
                </a:lnTo>
                <a:lnTo>
                  <a:pt x="1371" y="810"/>
                </a:lnTo>
                <a:lnTo>
                  <a:pt x="1286" y="793"/>
                </a:lnTo>
                <a:lnTo>
                  <a:pt x="1200" y="777"/>
                </a:lnTo>
                <a:lnTo>
                  <a:pt x="1114" y="762"/>
                </a:lnTo>
                <a:lnTo>
                  <a:pt x="1028" y="748"/>
                </a:lnTo>
                <a:lnTo>
                  <a:pt x="943" y="731"/>
                </a:lnTo>
                <a:lnTo>
                  <a:pt x="857" y="713"/>
                </a:lnTo>
                <a:lnTo>
                  <a:pt x="771" y="695"/>
                </a:lnTo>
                <a:lnTo>
                  <a:pt x="685" y="676"/>
                </a:lnTo>
                <a:lnTo>
                  <a:pt x="600" y="660"/>
                </a:lnTo>
                <a:lnTo>
                  <a:pt x="515" y="646"/>
                </a:lnTo>
                <a:lnTo>
                  <a:pt x="428" y="635"/>
                </a:lnTo>
                <a:lnTo>
                  <a:pt x="343" y="624"/>
                </a:lnTo>
                <a:lnTo>
                  <a:pt x="257" y="614"/>
                </a:lnTo>
                <a:lnTo>
                  <a:pt x="172" y="606"/>
                </a:lnTo>
                <a:lnTo>
                  <a:pt x="85" y="600"/>
                </a:lnTo>
                <a:lnTo>
                  <a:pt x="0" y="59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841400"/>
            <a:ext cx="8161200" cy="976320"/>
          </a:xfrm>
          <a:custGeom>
            <a:avLst/>
            <a:gdLst/>
            <a:ahLst/>
            <a:rect l="l" t="t" r="r" b="b"/>
            <a:pathLst>
              <a:path w="5141" h="615">
                <a:moveTo>
                  <a:pt x="0" y="414"/>
                </a:moveTo>
                <a:lnTo>
                  <a:pt x="0" y="191"/>
                </a:lnTo>
                <a:lnTo>
                  <a:pt x="85" y="195"/>
                </a:lnTo>
                <a:lnTo>
                  <a:pt x="172" y="201"/>
                </a:lnTo>
                <a:lnTo>
                  <a:pt x="257" y="202"/>
                </a:lnTo>
                <a:lnTo>
                  <a:pt x="343" y="205"/>
                </a:lnTo>
                <a:lnTo>
                  <a:pt x="428" y="209"/>
                </a:lnTo>
                <a:lnTo>
                  <a:pt x="515" y="217"/>
                </a:lnTo>
                <a:lnTo>
                  <a:pt x="600" y="218"/>
                </a:lnTo>
                <a:lnTo>
                  <a:pt x="685" y="216"/>
                </a:lnTo>
                <a:lnTo>
                  <a:pt x="771" y="209"/>
                </a:lnTo>
                <a:lnTo>
                  <a:pt x="857" y="208"/>
                </a:lnTo>
                <a:lnTo>
                  <a:pt x="943" y="216"/>
                </a:lnTo>
                <a:lnTo>
                  <a:pt x="1028" y="226"/>
                </a:lnTo>
                <a:lnTo>
                  <a:pt x="1114" y="236"/>
                </a:lnTo>
                <a:lnTo>
                  <a:pt x="1200" y="242"/>
                </a:lnTo>
                <a:lnTo>
                  <a:pt x="1286" y="247"/>
                </a:lnTo>
                <a:lnTo>
                  <a:pt x="1371" y="251"/>
                </a:lnTo>
                <a:lnTo>
                  <a:pt x="1456" y="258"/>
                </a:lnTo>
                <a:lnTo>
                  <a:pt x="1543" y="265"/>
                </a:lnTo>
                <a:lnTo>
                  <a:pt x="1628" y="267"/>
                </a:lnTo>
                <a:lnTo>
                  <a:pt x="1714" y="266"/>
                </a:lnTo>
                <a:lnTo>
                  <a:pt x="1799" y="268"/>
                </a:lnTo>
                <a:lnTo>
                  <a:pt x="1886" y="276"/>
                </a:lnTo>
                <a:lnTo>
                  <a:pt x="1971" y="283"/>
                </a:lnTo>
                <a:lnTo>
                  <a:pt x="2056" y="292"/>
                </a:lnTo>
                <a:lnTo>
                  <a:pt x="2142" y="295"/>
                </a:lnTo>
                <a:lnTo>
                  <a:pt x="2228" y="294"/>
                </a:lnTo>
                <a:lnTo>
                  <a:pt x="2314" y="299"/>
                </a:lnTo>
                <a:lnTo>
                  <a:pt x="2399" y="301"/>
                </a:lnTo>
                <a:lnTo>
                  <a:pt x="2485" y="300"/>
                </a:lnTo>
                <a:lnTo>
                  <a:pt x="2571" y="288"/>
                </a:lnTo>
                <a:lnTo>
                  <a:pt x="2656" y="278"/>
                </a:lnTo>
                <a:lnTo>
                  <a:pt x="2742" y="272"/>
                </a:lnTo>
                <a:lnTo>
                  <a:pt x="2827" y="266"/>
                </a:lnTo>
                <a:lnTo>
                  <a:pt x="2914" y="256"/>
                </a:lnTo>
                <a:lnTo>
                  <a:pt x="2999" y="239"/>
                </a:lnTo>
                <a:lnTo>
                  <a:pt x="3085" y="217"/>
                </a:lnTo>
                <a:lnTo>
                  <a:pt x="3170" y="195"/>
                </a:lnTo>
                <a:lnTo>
                  <a:pt x="3256" y="175"/>
                </a:lnTo>
                <a:lnTo>
                  <a:pt x="3342" y="161"/>
                </a:lnTo>
                <a:lnTo>
                  <a:pt x="3427" y="139"/>
                </a:lnTo>
                <a:lnTo>
                  <a:pt x="3513" y="117"/>
                </a:lnTo>
                <a:lnTo>
                  <a:pt x="3599" y="91"/>
                </a:lnTo>
                <a:lnTo>
                  <a:pt x="3685" y="81"/>
                </a:lnTo>
                <a:lnTo>
                  <a:pt x="3770" y="67"/>
                </a:lnTo>
                <a:lnTo>
                  <a:pt x="3856" y="60"/>
                </a:lnTo>
                <a:lnTo>
                  <a:pt x="3942" y="50"/>
                </a:lnTo>
                <a:lnTo>
                  <a:pt x="4027" y="40"/>
                </a:lnTo>
                <a:lnTo>
                  <a:pt x="4113" y="27"/>
                </a:lnTo>
                <a:lnTo>
                  <a:pt x="4198" y="13"/>
                </a:lnTo>
                <a:lnTo>
                  <a:pt x="4285" y="11"/>
                </a:lnTo>
                <a:lnTo>
                  <a:pt x="4370" y="12"/>
                </a:lnTo>
                <a:lnTo>
                  <a:pt x="4456" y="17"/>
                </a:lnTo>
                <a:lnTo>
                  <a:pt x="4541" y="18"/>
                </a:lnTo>
                <a:lnTo>
                  <a:pt x="4627" y="21"/>
                </a:lnTo>
                <a:lnTo>
                  <a:pt x="4713" y="21"/>
                </a:lnTo>
                <a:lnTo>
                  <a:pt x="4798" y="17"/>
                </a:lnTo>
                <a:lnTo>
                  <a:pt x="4884" y="9"/>
                </a:lnTo>
                <a:lnTo>
                  <a:pt x="4970" y="5"/>
                </a:lnTo>
                <a:lnTo>
                  <a:pt x="5056" y="0"/>
                </a:lnTo>
                <a:lnTo>
                  <a:pt x="5141" y="2"/>
                </a:lnTo>
                <a:lnTo>
                  <a:pt x="5141" y="173"/>
                </a:lnTo>
                <a:lnTo>
                  <a:pt x="5056" y="175"/>
                </a:lnTo>
                <a:lnTo>
                  <a:pt x="4970" y="180"/>
                </a:lnTo>
                <a:lnTo>
                  <a:pt x="4884" y="183"/>
                </a:lnTo>
                <a:lnTo>
                  <a:pt x="4798" y="187"/>
                </a:lnTo>
                <a:lnTo>
                  <a:pt x="4713" y="186"/>
                </a:lnTo>
                <a:lnTo>
                  <a:pt x="4627" y="183"/>
                </a:lnTo>
                <a:lnTo>
                  <a:pt x="4541" y="177"/>
                </a:lnTo>
                <a:lnTo>
                  <a:pt x="4456" y="174"/>
                </a:lnTo>
                <a:lnTo>
                  <a:pt x="4370" y="172"/>
                </a:lnTo>
                <a:lnTo>
                  <a:pt x="4285" y="177"/>
                </a:lnTo>
                <a:lnTo>
                  <a:pt x="4198" y="186"/>
                </a:lnTo>
                <a:lnTo>
                  <a:pt x="4113" y="206"/>
                </a:lnTo>
                <a:lnTo>
                  <a:pt x="4027" y="223"/>
                </a:lnTo>
                <a:lnTo>
                  <a:pt x="3942" y="241"/>
                </a:lnTo>
                <a:lnTo>
                  <a:pt x="3856" y="262"/>
                </a:lnTo>
                <a:lnTo>
                  <a:pt x="3770" y="282"/>
                </a:lnTo>
                <a:lnTo>
                  <a:pt x="3685" y="308"/>
                </a:lnTo>
                <a:lnTo>
                  <a:pt x="3599" y="329"/>
                </a:lnTo>
                <a:lnTo>
                  <a:pt x="3513" y="367"/>
                </a:lnTo>
                <a:lnTo>
                  <a:pt x="3427" y="400"/>
                </a:lnTo>
                <a:lnTo>
                  <a:pt x="3342" y="437"/>
                </a:lnTo>
                <a:lnTo>
                  <a:pt x="3256" y="461"/>
                </a:lnTo>
                <a:lnTo>
                  <a:pt x="3170" y="489"/>
                </a:lnTo>
                <a:lnTo>
                  <a:pt x="3085" y="513"/>
                </a:lnTo>
                <a:lnTo>
                  <a:pt x="2999" y="536"/>
                </a:lnTo>
                <a:lnTo>
                  <a:pt x="2914" y="554"/>
                </a:lnTo>
                <a:lnTo>
                  <a:pt x="2827" y="566"/>
                </a:lnTo>
                <a:lnTo>
                  <a:pt x="2742" y="576"/>
                </a:lnTo>
                <a:lnTo>
                  <a:pt x="2656" y="585"/>
                </a:lnTo>
                <a:lnTo>
                  <a:pt x="2571" y="601"/>
                </a:lnTo>
                <a:lnTo>
                  <a:pt x="2485" y="615"/>
                </a:lnTo>
                <a:lnTo>
                  <a:pt x="2399" y="614"/>
                </a:lnTo>
                <a:lnTo>
                  <a:pt x="2314" y="606"/>
                </a:lnTo>
                <a:lnTo>
                  <a:pt x="2228" y="599"/>
                </a:lnTo>
                <a:lnTo>
                  <a:pt x="2142" y="599"/>
                </a:lnTo>
                <a:lnTo>
                  <a:pt x="2056" y="593"/>
                </a:lnTo>
                <a:lnTo>
                  <a:pt x="1971" y="579"/>
                </a:lnTo>
                <a:lnTo>
                  <a:pt x="1886" y="564"/>
                </a:lnTo>
                <a:lnTo>
                  <a:pt x="1799" y="551"/>
                </a:lnTo>
                <a:lnTo>
                  <a:pt x="1714" y="549"/>
                </a:lnTo>
                <a:lnTo>
                  <a:pt x="1628" y="552"/>
                </a:lnTo>
                <a:lnTo>
                  <a:pt x="1543" y="552"/>
                </a:lnTo>
                <a:lnTo>
                  <a:pt x="1456" y="544"/>
                </a:lnTo>
                <a:lnTo>
                  <a:pt x="1371" y="531"/>
                </a:lnTo>
                <a:lnTo>
                  <a:pt x="1286" y="521"/>
                </a:lnTo>
                <a:lnTo>
                  <a:pt x="1200" y="514"/>
                </a:lnTo>
                <a:lnTo>
                  <a:pt x="1114" y="509"/>
                </a:lnTo>
                <a:lnTo>
                  <a:pt x="1028" y="505"/>
                </a:lnTo>
                <a:lnTo>
                  <a:pt x="943" y="500"/>
                </a:lnTo>
                <a:lnTo>
                  <a:pt x="857" y="493"/>
                </a:lnTo>
                <a:lnTo>
                  <a:pt x="771" y="482"/>
                </a:lnTo>
                <a:lnTo>
                  <a:pt x="685" y="472"/>
                </a:lnTo>
                <a:lnTo>
                  <a:pt x="600" y="462"/>
                </a:lnTo>
                <a:lnTo>
                  <a:pt x="515" y="453"/>
                </a:lnTo>
                <a:lnTo>
                  <a:pt x="428" y="446"/>
                </a:lnTo>
                <a:lnTo>
                  <a:pt x="343" y="438"/>
                </a:lnTo>
                <a:lnTo>
                  <a:pt x="257" y="431"/>
                </a:lnTo>
                <a:lnTo>
                  <a:pt x="172" y="424"/>
                </a:lnTo>
                <a:lnTo>
                  <a:pt x="85" y="418"/>
                </a:lnTo>
                <a:lnTo>
                  <a:pt x="0" y="4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690560"/>
            <a:ext cx="8161200" cy="628920"/>
          </a:xfrm>
          <a:custGeom>
            <a:avLst/>
            <a:gdLst/>
            <a:ahLst/>
            <a:rect l="l" t="t" r="r" b="b"/>
            <a:pathLst>
              <a:path w="5141" h="396">
                <a:moveTo>
                  <a:pt x="0" y="286"/>
                </a:moveTo>
                <a:lnTo>
                  <a:pt x="0" y="0"/>
                </a:lnTo>
                <a:lnTo>
                  <a:pt x="85" y="0"/>
                </a:lnTo>
                <a:lnTo>
                  <a:pt x="172" y="0"/>
                </a:lnTo>
                <a:lnTo>
                  <a:pt x="257" y="0"/>
                </a:lnTo>
                <a:lnTo>
                  <a:pt x="343" y="0"/>
                </a:lnTo>
                <a:lnTo>
                  <a:pt x="428" y="0"/>
                </a:lnTo>
                <a:lnTo>
                  <a:pt x="515" y="0"/>
                </a:lnTo>
                <a:lnTo>
                  <a:pt x="600" y="0"/>
                </a:lnTo>
                <a:lnTo>
                  <a:pt x="685" y="0"/>
                </a:lnTo>
                <a:lnTo>
                  <a:pt x="771" y="0"/>
                </a:lnTo>
                <a:lnTo>
                  <a:pt x="857" y="0"/>
                </a:lnTo>
                <a:lnTo>
                  <a:pt x="943" y="0"/>
                </a:lnTo>
                <a:lnTo>
                  <a:pt x="1028" y="0"/>
                </a:lnTo>
                <a:lnTo>
                  <a:pt x="1114" y="0"/>
                </a:lnTo>
                <a:lnTo>
                  <a:pt x="1200" y="0"/>
                </a:lnTo>
                <a:lnTo>
                  <a:pt x="1286" y="0"/>
                </a:lnTo>
                <a:lnTo>
                  <a:pt x="1371" y="0"/>
                </a:lnTo>
                <a:lnTo>
                  <a:pt x="1456" y="0"/>
                </a:lnTo>
                <a:lnTo>
                  <a:pt x="1543" y="0"/>
                </a:lnTo>
                <a:lnTo>
                  <a:pt x="1628" y="0"/>
                </a:lnTo>
                <a:lnTo>
                  <a:pt x="1714" y="0"/>
                </a:lnTo>
                <a:lnTo>
                  <a:pt x="1799" y="1"/>
                </a:lnTo>
                <a:lnTo>
                  <a:pt x="1886" y="1"/>
                </a:lnTo>
                <a:lnTo>
                  <a:pt x="1971" y="1"/>
                </a:lnTo>
                <a:lnTo>
                  <a:pt x="2056" y="1"/>
                </a:lnTo>
                <a:lnTo>
                  <a:pt x="2142" y="1"/>
                </a:lnTo>
                <a:lnTo>
                  <a:pt x="2228" y="1"/>
                </a:lnTo>
                <a:lnTo>
                  <a:pt x="2314" y="1"/>
                </a:lnTo>
                <a:lnTo>
                  <a:pt x="2399" y="1"/>
                </a:lnTo>
                <a:lnTo>
                  <a:pt x="2485" y="1"/>
                </a:lnTo>
                <a:lnTo>
                  <a:pt x="2571" y="1"/>
                </a:lnTo>
                <a:lnTo>
                  <a:pt x="2656" y="1"/>
                </a:lnTo>
                <a:lnTo>
                  <a:pt x="2742" y="1"/>
                </a:lnTo>
                <a:lnTo>
                  <a:pt x="2827" y="1"/>
                </a:lnTo>
                <a:lnTo>
                  <a:pt x="2914" y="1"/>
                </a:lnTo>
                <a:lnTo>
                  <a:pt x="2999" y="1"/>
                </a:lnTo>
                <a:lnTo>
                  <a:pt x="3085" y="1"/>
                </a:lnTo>
                <a:lnTo>
                  <a:pt x="3170" y="1"/>
                </a:lnTo>
                <a:lnTo>
                  <a:pt x="3256" y="1"/>
                </a:lnTo>
                <a:lnTo>
                  <a:pt x="3342" y="1"/>
                </a:lnTo>
                <a:lnTo>
                  <a:pt x="3427" y="1"/>
                </a:lnTo>
                <a:lnTo>
                  <a:pt x="3513" y="1"/>
                </a:lnTo>
                <a:lnTo>
                  <a:pt x="3599" y="1"/>
                </a:lnTo>
                <a:lnTo>
                  <a:pt x="3685" y="0"/>
                </a:lnTo>
                <a:lnTo>
                  <a:pt x="3770" y="0"/>
                </a:lnTo>
                <a:lnTo>
                  <a:pt x="3856" y="0"/>
                </a:lnTo>
                <a:lnTo>
                  <a:pt x="3942" y="0"/>
                </a:lnTo>
                <a:lnTo>
                  <a:pt x="4027" y="0"/>
                </a:lnTo>
                <a:lnTo>
                  <a:pt x="4113" y="0"/>
                </a:lnTo>
                <a:lnTo>
                  <a:pt x="4198" y="0"/>
                </a:lnTo>
                <a:lnTo>
                  <a:pt x="4285" y="0"/>
                </a:lnTo>
                <a:lnTo>
                  <a:pt x="4370" y="0"/>
                </a:lnTo>
                <a:lnTo>
                  <a:pt x="4456" y="0"/>
                </a:lnTo>
                <a:lnTo>
                  <a:pt x="4541" y="0"/>
                </a:lnTo>
                <a:lnTo>
                  <a:pt x="4627" y="0"/>
                </a:lnTo>
                <a:lnTo>
                  <a:pt x="4713" y="0"/>
                </a:lnTo>
                <a:lnTo>
                  <a:pt x="4798" y="0"/>
                </a:lnTo>
                <a:lnTo>
                  <a:pt x="4884" y="0"/>
                </a:lnTo>
                <a:lnTo>
                  <a:pt x="4970" y="0"/>
                </a:lnTo>
                <a:lnTo>
                  <a:pt x="5056" y="0"/>
                </a:lnTo>
                <a:lnTo>
                  <a:pt x="5141" y="0"/>
                </a:lnTo>
                <a:lnTo>
                  <a:pt x="5141" y="97"/>
                </a:lnTo>
                <a:lnTo>
                  <a:pt x="5056" y="95"/>
                </a:lnTo>
                <a:lnTo>
                  <a:pt x="4970" y="100"/>
                </a:lnTo>
                <a:lnTo>
                  <a:pt x="4884" y="104"/>
                </a:lnTo>
                <a:lnTo>
                  <a:pt x="4798" y="112"/>
                </a:lnTo>
                <a:lnTo>
                  <a:pt x="4713" y="116"/>
                </a:lnTo>
                <a:lnTo>
                  <a:pt x="4627" y="116"/>
                </a:lnTo>
                <a:lnTo>
                  <a:pt x="4541" y="113"/>
                </a:lnTo>
                <a:lnTo>
                  <a:pt x="4456" y="112"/>
                </a:lnTo>
                <a:lnTo>
                  <a:pt x="4370" y="107"/>
                </a:lnTo>
                <a:lnTo>
                  <a:pt x="4285" y="106"/>
                </a:lnTo>
                <a:lnTo>
                  <a:pt x="4198" y="108"/>
                </a:lnTo>
                <a:lnTo>
                  <a:pt x="4113" y="122"/>
                </a:lnTo>
                <a:lnTo>
                  <a:pt x="4027" y="135"/>
                </a:lnTo>
                <a:lnTo>
                  <a:pt x="3942" y="145"/>
                </a:lnTo>
                <a:lnTo>
                  <a:pt x="3856" y="155"/>
                </a:lnTo>
                <a:lnTo>
                  <a:pt x="3770" y="162"/>
                </a:lnTo>
                <a:lnTo>
                  <a:pt x="3685" y="176"/>
                </a:lnTo>
                <a:lnTo>
                  <a:pt x="3599" y="186"/>
                </a:lnTo>
                <a:lnTo>
                  <a:pt x="3513" y="212"/>
                </a:lnTo>
                <a:lnTo>
                  <a:pt x="3427" y="234"/>
                </a:lnTo>
                <a:lnTo>
                  <a:pt x="3342" y="256"/>
                </a:lnTo>
                <a:lnTo>
                  <a:pt x="3256" y="270"/>
                </a:lnTo>
                <a:lnTo>
                  <a:pt x="3170" y="290"/>
                </a:lnTo>
                <a:lnTo>
                  <a:pt x="3085" y="312"/>
                </a:lnTo>
                <a:lnTo>
                  <a:pt x="2999" y="334"/>
                </a:lnTo>
                <a:lnTo>
                  <a:pt x="2914" y="351"/>
                </a:lnTo>
                <a:lnTo>
                  <a:pt x="2827" y="361"/>
                </a:lnTo>
                <a:lnTo>
                  <a:pt x="2742" y="367"/>
                </a:lnTo>
                <a:lnTo>
                  <a:pt x="2656" y="373"/>
                </a:lnTo>
                <a:lnTo>
                  <a:pt x="2571" y="383"/>
                </a:lnTo>
                <a:lnTo>
                  <a:pt x="2485" y="395"/>
                </a:lnTo>
                <a:lnTo>
                  <a:pt x="2399" y="396"/>
                </a:lnTo>
                <a:lnTo>
                  <a:pt x="2314" y="394"/>
                </a:lnTo>
                <a:lnTo>
                  <a:pt x="2228" y="389"/>
                </a:lnTo>
                <a:lnTo>
                  <a:pt x="2142" y="390"/>
                </a:lnTo>
                <a:lnTo>
                  <a:pt x="2056" y="387"/>
                </a:lnTo>
                <a:lnTo>
                  <a:pt x="1971" y="378"/>
                </a:lnTo>
                <a:lnTo>
                  <a:pt x="1886" y="371"/>
                </a:lnTo>
                <a:lnTo>
                  <a:pt x="1799" y="363"/>
                </a:lnTo>
                <a:lnTo>
                  <a:pt x="1714" y="361"/>
                </a:lnTo>
                <a:lnTo>
                  <a:pt x="1628" y="362"/>
                </a:lnTo>
                <a:lnTo>
                  <a:pt x="1543" y="360"/>
                </a:lnTo>
                <a:lnTo>
                  <a:pt x="1456" y="353"/>
                </a:lnTo>
                <a:lnTo>
                  <a:pt x="1371" y="346"/>
                </a:lnTo>
                <a:lnTo>
                  <a:pt x="1286" y="342"/>
                </a:lnTo>
                <a:lnTo>
                  <a:pt x="1200" y="337"/>
                </a:lnTo>
                <a:lnTo>
                  <a:pt x="1114" y="331"/>
                </a:lnTo>
                <a:lnTo>
                  <a:pt x="1028" y="321"/>
                </a:lnTo>
                <a:lnTo>
                  <a:pt x="943" y="311"/>
                </a:lnTo>
                <a:lnTo>
                  <a:pt x="857" y="303"/>
                </a:lnTo>
                <a:lnTo>
                  <a:pt x="771" y="304"/>
                </a:lnTo>
                <a:lnTo>
                  <a:pt x="685" y="311"/>
                </a:lnTo>
                <a:lnTo>
                  <a:pt x="600" y="313"/>
                </a:lnTo>
                <a:lnTo>
                  <a:pt x="515" y="312"/>
                </a:lnTo>
                <a:lnTo>
                  <a:pt x="428" y="304"/>
                </a:lnTo>
                <a:lnTo>
                  <a:pt x="343" y="300"/>
                </a:lnTo>
                <a:lnTo>
                  <a:pt x="257" y="297"/>
                </a:lnTo>
                <a:lnTo>
                  <a:pt x="172" y="296"/>
                </a:lnTo>
                <a:lnTo>
                  <a:pt x="85" y="290"/>
                </a:lnTo>
                <a:lnTo>
                  <a:pt x="0" y="28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690560"/>
            <a:ext cx="1440" cy="437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5480" y="6066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5480" y="56293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5480" y="51912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5480" y="47530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5480" y="43149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5480" y="38782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5480" y="34401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5480" y="300348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5480" y="256536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480" y="212868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5480" y="169056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066000"/>
            <a:ext cx="816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11280" y="6066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971720" y="6066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32160" y="6066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92600" y="6066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51600" y="6066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413480" y="6066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72480" y="6066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51440" y="5630760"/>
            <a:ext cx="72360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78800" y="5672160"/>
            <a:ext cx="67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44960" y="4932360"/>
            <a:ext cx="67932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70520" y="4973760"/>
            <a:ext cx="67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48120" y="3989520"/>
            <a:ext cx="928800" cy="301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73320" y="4030560"/>
            <a:ext cx="73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7480" y="3075120"/>
            <a:ext cx="919440" cy="301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2680" y="3116160"/>
            <a:ext cx="73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48120" y="2379600"/>
            <a:ext cx="100476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73320" y="2421000"/>
            <a:ext cx="73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1400" y="1811160"/>
            <a:ext cx="1465200" cy="301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05160" y="1851120"/>
            <a:ext cx="127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ей или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1160" y="5956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7480" y="5519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7480" y="5081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" y="46450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480" y="4206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7480" y="3768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480" y="33307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7480" y="2894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7480" y="2455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480" y="201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4520" y="15811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2920" y="6215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81920" y="6215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3800" y="6215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02800" y="6215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63240" y="6215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23680" y="6215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84480" y="6215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647712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2320" y="1450800"/>
            <a:ext cx="55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4840" y="147492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 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3BF8-516C-4A69-9F84-C13B32E7B1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емейная политика во Франции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578C-C986-4AA9-95C7-9DB8C598BF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Политика в области народонаселения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Точки соприкосновения с политикой в других областях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Может затрагивать  многие аспекты 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Жилищной политики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(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особия выплачиваются в соответствии с количеством детей в семье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олитики в области здравоохранения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(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овышение продолжительности жизни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олитики в области образования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(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важность начального и дошкольного образования)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Иммиграционной политики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Законов, связанных с предоставлением гражданства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Основная трудность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Различие между политикой и области народонаселения и социальной политика (борьба с бедностью, сокращение социально-экономического неравенства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E291-0D4A-403F-999E-6E52259F5F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Как в целом оценивается эффект от реализации политики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Довольно трудно оценить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: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влияние на  неравенство в доходах населения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(«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ффект перераспределения» или «вертикальная компенсация доходов»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Измеряется путем искусственного моделирования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br>
              <a:rPr sz="2000"/>
            </a:br>
            <a:r>
              <a:rPr b="0" i="1" lang="en-US" sz="18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008080"/>
                </a:solidFill>
                <a:latin typeface="Comic Sans MS"/>
              </a:rPr>
              <a:t>сравнение показателей  по типу семьи до/после реализации политики)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Гораздо сложнее оценить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лияние  реализации политики на на изменение уровня рождаемости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(</a:t>
            </a:r>
            <a:r>
              <a:rPr b="0" i="1" lang="en-US" sz="2000" spc="-1" strike="noStrike">
                <a:solidFill>
                  <a:srgbClr val="800000"/>
                </a:solidFill>
                <a:latin typeface="Comic Sans MS"/>
              </a:rPr>
              <a:t>«</a:t>
            </a: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горизонтальная компенсация</a:t>
            </a:r>
            <a:r>
              <a:rPr b="0" i="1" lang="en-US" sz="2000" spc="-1" strike="noStrike">
                <a:solidFill>
                  <a:srgbClr val="800000"/>
                </a:solidFill>
                <a:latin typeface="Comic Sans MS"/>
              </a:rPr>
              <a:t>"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Слишком много параметров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остоянно меняется (трудно выделить «чистый» эффект конкретной принятой меры</a:t>
            </a:r>
            <a:r>
              <a:rPr b="0" i="1" lang="en-US" sz="18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Наличие противоречивых переменных факторов, таких как экономическая ситуация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Мало согласованных данных  по странам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br>
              <a:rPr sz="2000"/>
            </a:br>
            <a:r>
              <a:rPr b="0" i="1" lang="en-US" sz="18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008080"/>
                </a:solidFill>
                <a:latin typeface="Comic Sans MS"/>
              </a:rPr>
              <a:t>Тем не менее – см. Сводные показатели согласно определениям системы </a:t>
            </a:r>
            <a:r>
              <a:rPr b="0" i="1" lang="en-US" sz="1800" spc="-1" strike="noStrike">
                <a:solidFill>
                  <a:srgbClr val="008080"/>
                </a:solidFill>
                <a:latin typeface="Comic Sans MS"/>
              </a:rPr>
              <a:t>ESSPRO</a:t>
            </a:r>
            <a:r>
              <a:rPr b="0" i="1" lang="ru-RU" sz="1800" spc="-1" strike="noStrike">
                <a:solidFill>
                  <a:srgbClr val="008080"/>
                </a:solidFill>
                <a:latin typeface="Comic Sans MS"/>
              </a:rPr>
              <a:t>, ЕВРОСТАТа</a:t>
            </a:r>
            <a:r>
              <a:rPr b="0" i="1" lang="en-US" sz="18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047E5-BF10-46B7-9F90-24A3AD035B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Риски или факторы,  при возникновении которых может потребоваться социальная защита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«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функции»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на языке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SSPRO,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ЕВРОСТАТа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Болезнь или необходимость медицинской помощи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Инвалидность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Пожилой возраст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Потеря кормильца</a:t>
            </a:r>
            <a:r>
              <a:rPr b="0" lang="en-GB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довы, сироты</a:t>
            </a:r>
            <a:r>
              <a:rPr b="0" lang="en-GB" sz="20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Comic Sans MS"/>
              </a:rPr>
              <a:t>Семья, материнство, детство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Безработица</a:t>
            </a:r>
            <a:r>
              <a:rPr b="0" lang="en-GB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ключая ожидаемый выход на пенсию и содействие в возвращении на работе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Обеспечение жильем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оциальная маргинализация</a:t>
            </a:r>
            <a:r>
              <a:rPr b="0" lang="en-GB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ключая минимальный доход</a:t>
            </a:r>
            <a:r>
              <a:rPr b="0" lang="en-GB" sz="20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67D7-EE98-489B-B0F7-B5ED111D02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Основные источники указанной ниже информации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анные по социальной защите, полученные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DREES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татистическо-исследовательское управление Министерства социального обеспечения, здравоохранения и семьи) 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м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: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бюллетень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  <a:ea typeface="Arial"/>
              </a:rPr>
              <a:t>É</a:t>
            </a:r>
            <a:r>
              <a:rPr b="0" i="1" lang="en-US" sz="2400" spc="-1" strike="noStrike">
                <a:solidFill>
                  <a:srgbClr val="800000"/>
                </a:solidFill>
                <a:latin typeface="Comic Sans MS"/>
              </a:rPr>
              <a:t>tudes et résultats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 частности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#376,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февраль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2005,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исследование, проведенное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J. Bechtel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L. Caussat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E758-771A-44CF-801E-DD191F6C12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Демографический профиль Франции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Порядок величин в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2005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Население Франции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61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иллион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человек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(42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иллиона в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1945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Суммарный коэффициент рождаемости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(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СКР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)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в 2005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1.94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ребенка, рожденных у одной женщины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растет  с 1993 (1,67)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Cohort fertility rate for generation 1966: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2,01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Средний возраст матери в момент рождения ребенка – 29,7 лет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женщин, никогда не имевших детей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10-11%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Продолжительность жизни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80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лет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(77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- для мужчин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,84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– для женщин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80%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супружеских пар, до этого жили, не вступая в брак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 среднем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2.5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года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44%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детей рождены вне брака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9C95-870F-46D1-9312-B87A74079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ьготы и пособия по социальному обеспечению во Франции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Arial"/>
              </a:rPr>
              <a:t>,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в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Arial"/>
              </a:rPr>
              <a:t> 2003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Распределение рисков (функций)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066680"/>
          <a:ext cx="838188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1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14800" y="5029200"/>
            <a:ext cx="4267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Total amount: 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465 billions € = 30% of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5C0C-5AED-4314-BB89-E18958505C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Франция 2003: Льготы и пособия по социальному обеспечению семьям и матерям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биллионов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€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09560" y="1033560"/>
          <a:ext cx="7515360" cy="55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1033560"/>
                    <a:ext cx="751536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86C2-EA66-4ABC-9981-167E068AAA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Франция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1995-2003: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Количество семей, получающих пособия на детей и среднемесячный размер пособий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966960"/>
          <a:ext cx="8686800" cy="56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66960"/>
                    <a:ext cx="8686800" cy="56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65520" y="2741760"/>
            <a:ext cx="22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 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обия, протестированные только в этот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10040" y="3123720"/>
            <a:ext cx="33523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A443-5F45-4848-9106-07676061B1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особия семьям на детей по социальной защите в Европе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 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денежные выплаты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/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 неденежной форме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[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ключая образование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]   (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%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от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ВП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1197000"/>
          <a:ext cx="8288280" cy="54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28828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2016-D42B-42B5-923A-9D96D87821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Участники реализации семейной политики во Франции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2362320"/>
          </a:xfrm>
          <a:prstGeom prst="rect">
            <a:avLst/>
          </a:prstGeom>
          <a:noFill/>
          <a:ln w="4140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60%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тлел по вопросам семьи Системы социального обеспечения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NAF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(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Национальный фонд выплаты пособий семьям на детей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29200" y="5181480"/>
            <a:ext cx="3200400" cy="91440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8%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частные работодатели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5408640" y="1447920"/>
            <a:ext cx="3125880" cy="16002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14%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естные в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муниципалит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департа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99160" y="3429000"/>
            <a:ext cx="2820960" cy="1219320"/>
          </a:xfrm>
          <a:prstGeom prst="rect">
            <a:avLst/>
          </a:prstGeom>
          <a:noFill/>
          <a:ln w="316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8%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государственные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191120"/>
            <a:ext cx="3200400" cy="16002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12%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другие схемы социальной защиты, дополнительные фон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9114-28EE-4F91-ABC1-E73869FD53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Пособия и льготы семьям с детьми помимо денежных пособий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См. также оказание поддержки в неденежной форме, не предусмотренные в категориях «Семья» и «Дети», например, субсидирование оборудования или зданий,предназначенных для использования детьми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Такие пособия и льготы как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Пособия на жилье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Школьный транспорт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Субсидирование питания в школе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Но, прежде всего: всеобщее дошкольное образование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100 % 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детей в возрасте 3-лет принимаются в детские дошкольные учреждения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(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мировой рекорд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35 % 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идут в детские дошкольные учреждения во возрасте 2-х лет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обычно в середине год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Преподаватели такого же уровня  и образования как и в начальной школе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«Общественное благо»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 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бесплатно для семей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История вопроса: организовано по требованию рабочего класса в 30-е годы, затем распространилось и на буржуазные семьи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E868-B703-400E-9CAD-46B1234C25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Пособия и льготы помимо денежных пособий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2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м. также субсидии и гранты, не классифицирующиеся как помощь семье/детям, но в известной степени зависящие от количества детей в семье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особия на жилье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Гранты на школьное обучение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И т.д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м. Наглядный пример мер в области налогового права Франции -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the "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quotient familial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" (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истема налогообложение с двумы ставками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i="1" lang="ru-RU" sz="2000" spc="-1" strike="noStrike">
                <a:solidFill>
                  <a:srgbClr val="008080"/>
                </a:solidFill>
                <a:latin typeface="Comic Sans MS"/>
              </a:rPr>
              <a:t>будет объеснена позднее</a:t>
            </a:r>
            <a:r>
              <a:rPr b="0" i="1" lang="en-US" sz="20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B2CB-C5D6-459B-9008-C4658BF90C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Количество детских центров, предоставляющих  уход за ребенком, во Франции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2003: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/3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детей в возрасте от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4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месяцев до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3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лет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Comic Sans MS"/>
              </a:rPr>
              <a:t>2540 "Crèches collectives" 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i="1" lang="ru-RU" sz="2400" spc="-1" strike="noStrike">
                <a:solidFill>
                  <a:srgbClr val="800000"/>
                </a:solidFill>
                <a:latin typeface="Comic Sans MS"/>
              </a:rPr>
              <a:t>дневные центры по уходу за ребенком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572040" indent="-21996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Муниципальные центры дневного ухода за ребенком</a:t>
            </a:r>
            <a:r>
              <a:rPr b="0" lang="fr-FR" sz="2000" spc="-1" strike="noStrike">
                <a:solidFill>
                  <a:srgbClr val="00808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Корпоративные детские центры</a:t>
            </a:r>
            <a:r>
              <a:rPr b="0" lang="fr-FR" sz="2000" spc="-1" strike="noStrike">
                <a:solidFill>
                  <a:srgbClr val="008080"/>
                </a:solidFill>
                <a:latin typeface="Comic Sans MS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Центры по уходу за ребенком, организованные родителями</a:t>
            </a:r>
            <a:r>
              <a:rPr b="0" lang="fr-FR" sz="2000" spc="-1" strike="noStrike">
                <a:solidFill>
                  <a:srgbClr val="008080"/>
                </a:solidFill>
                <a:latin typeface="Comic Sans MS"/>
              </a:rPr>
              <a:t> (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добровольные ассоциации</a:t>
            </a:r>
            <a:r>
              <a:rPr b="0" lang="fr-FR" sz="2000" spc="-1" strike="noStrike">
                <a:solidFill>
                  <a:srgbClr val="00808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263880" indent="-263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Comic Sans MS"/>
              </a:rPr>
              <a:t>2870 "Haltes-garderies" 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i="1" lang="ru-RU" sz="2400" spc="-1" strike="noStrike">
                <a:solidFill>
                  <a:srgbClr val="800000"/>
                </a:solidFill>
                <a:latin typeface="Comic Sans MS"/>
              </a:rPr>
              <a:t>центры, предоставляющие уход за детьми без  предварительной записи) 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263880" indent="-263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Comic Sans MS"/>
              </a:rPr>
              <a:t>1170 "Crèches familiales" 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i="1" lang="ru-RU" sz="2400" spc="-1" strike="noStrike">
                <a:solidFill>
                  <a:srgbClr val="800000"/>
                </a:solidFill>
                <a:latin typeface="Comic Sans MS"/>
              </a:rPr>
              <a:t>«Домашний» уход за ребенком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572040" indent="-21996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Уход за детьми осуществляется в доме нянь-воспитательниц, нанятых муниципалитетом или частной организацией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263880" indent="-263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Comic Sans MS"/>
              </a:rPr>
              <a:t>1210 "Jardins d’enfants" 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i="1" lang="ru-RU" sz="2400" spc="-1" strike="noStrike">
                <a:solidFill>
                  <a:srgbClr val="800000"/>
                </a:solidFill>
                <a:latin typeface="Comic Sans MS"/>
              </a:rPr>
              <a:t>Детские сады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572040" indent="-21996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Альтернатива «материнских школ»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263880" indent="-2638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Comic Sans MS"/>
              </a:rPr>
              <a:t>2735 "Accueils polyvalents" 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i="1" lang="ru-RU" sz="2400" spc="-1" strike="noStrike">
                <a:solidFill>
                  <a:srgbClr val="800000"/>
                </a:solidFill>
                <a:latin typeface="Comic Sans MS"/>
              </a:rPr>
              <a:t>многофункциональные центры</a:t>
            </a:r>
            <a:r>
              <a:rPr b="0" i="1" lang="fr-FR" sz="24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572040" indent="-21996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Центры по уходу за ребенком, предлагающие целый ряд других услуг для детей </a:t>
            </a:r>
            <a:r>
              <a:rPr b="0" lang="fr-FR" sz="2000" spc="-1" strike="noStrike">
                <a:solidFill>
                  <a:srgbClr val="008080"/>
                </a:solidFill>
                <a:latin typeface="Comic Sans MS"/>
              </a:rPr>
              <a:t> (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содействуют развитию ребенка/значительное увеличение из количества </a:t>
            </a:r>
            <a:r>
              <a:rPr b="0" lang="fr-FR" sz="2000" spc="-1" strike="noStrike">
                <a:solidFill>
                  <a:srgbClr val="008080"/>
                </a:solidFill>
                <a:latin typeface="Comic Sans MS"/>
              </a:rPr>
              <a:t>strong increase)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B8A9-42DE-4BDC-B699-4D0EE21817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Несколько слов о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"quotient familial"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The "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quotient familial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" (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налоговая система с двумя ставками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)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сокращает предельную ставку налогообложения семьи в соответствии с количеством «частей» (или «долей»), установленных для данной семьи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оличество «частей» в сущности зависит от количества и очередности рождения детей в семье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1 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часть - на каждого из супругов или партнеров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0.5 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– на первого ребенка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в неполных семьях – 1 часть на ребенка) 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0.5 </a:t>
            </a: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на второго ребенка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Comic Sans MS"/>
              </a:rPr>
              <a:t>И  1 часть на каждого ребенка, начиная с третьего (на каждого последующего ребенка предоставляется добавка, равная 0,5 части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808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лагаемый налогом доход семьи делится на количество частей. Отсюда, важность 0,5 добавки на каждого ребенка (начиная с третьего) для сокращения налогов, выплачиваемых семьей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днако, существует потолок, ограничивающий подобное сокращение налогов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A0F1-1A2A-4B36-B7A2-512F0E30EB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Каково воздействие системы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"quotient familial"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порный вопрос во Франции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Затрагивает только налогоплательщиков (половина семей во Франции)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Следовательно выгодно преимущественно семьям, принадлежащих к среднему и высшему классу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огласно модели прогнозирования, разработанной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DREES,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государство инвестирует в налоговые меры, направленный на поддержку семей,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12.5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биллионов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евро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о сравнению с43,9 биллионами, выделяемыми на поддержку семьи и ребенка, это влечет за собой дополнительные расходы государства, равные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28% !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92D5-2FA3-488F-ABEB-2C612240A4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Франция, Европа, Российская Федерация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суммарный коэффициент рождаемости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среднее количество живых детей, рожденных у женщины)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892080"/>
          <a:ext cx="7315200" cy="56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92080"/>
                    <a:ext cx="73152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6FBE-4CEF-4AFB-8AD5-C0E733CAFF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Каково воздействие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"quotient familial"? (2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о эти дополнительные расходы обманчивы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(Bechtel &amp; Caussat 2005)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631440" indent="-2426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ри отсутствии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"quotient familial",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 государство увеличило  бы предельную ставку налогообложения семьи с тем, чтобы компенсировать убытки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31440" indent="-2426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С правовой точки зрения, «налоговые затраты» (сокращение налогов) должны являться для государства настоящей жертвой.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31440" indent="-2426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Таким образом, в официальной финансовой отчетности «налоговыми затратами» считаются  только 0,5 надбавки на третьего ребенка  и детей последущего порядка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31440" indent="-2426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Эти составляют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3.6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биллиона евро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(8%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 увеличение вместо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28%)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Другие статисты сравнивают дополнительные затраты в связи с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"quotient familial"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 результатами, полученными в связи с учетом обычного колличества детей в семье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the classical battery of household units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(1, O.5, O.3)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lvl="1" marL="631440" indent="-2426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Затраты составили бы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4.6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биллионов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дополнительных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10%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вместо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of 28% (Thélot &amp; Villac 1998, Albouy &amp; Roth 2004)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B64F-973E-43F7-B0E8-1D289633DE3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Некоторые особенности семейной политики во Франции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Продолжительность</a:t>
            </a:r>
            <a:r>
              <a:rPr b="0" lang="en-GB" sz="2400" spc="-1" strike="noStrike">
                <a:solidFill>
                  <a:srgbClr val="800000"/>
                </a:solidFill>
                <a:latin typeface="Comic Sans MS"/>
              </a:rPr>
              <a:t> (60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лет</a:t>
            </a:r>
            <a:r>
              <a:rPr b="0" lang="en-GB" sz="24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270720" indent="-270720">
              <a:lnSpc>
                <a:spcPct val="13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Политический нейтралитет </a:t>
            </a:r>
            <a:r>
              <a:rPr b="0" lang="en-GB" sz="20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остается незатронутой политическими переменами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270720" indent="-27072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Преследует одновременно несколько целей</a:t>
            </a:r>
            <a:r>
              <a:rPr b="0" lang="en-GB" sz="2400" spc="-1" strike="noStrike">
                <a:solidFill>
                  <a:srgbClr val="8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586800" indent="-22572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Обеспечение социального равенства; содействие росту рождаемости </a:t>
            </a:r>
            <a:r>
              <a:rPr b="0" lang="en-GB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270720" indent="-27072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е ведет к дискриминации семей иммигрантов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270720" indent="-27072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Однако, является сложной и не всегда последовательной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586800" indent="-22572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Способствует совмещению матерью работы и заботы о семье при рождении первого ребенка </a:t>
            </a:r>
            <a:r>
              <a:rPr b="0" lang="en-GB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ru-RU" sz="2000" spc="-1" strike="noStrike" u="sng">
                <a:solidFill>
                  <a:srgbClr val="008080"/>
                </a:solidFill>
                <a:uFillTx/>
                <a:latin typeface="Comic Sans MS"/>
              </a:rPr>
              <a:t>и одновременно</a:t>
            </a:r>
            <a:r>
              <a:rPr b="0" lang="en-GB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оощряет женщину не выходить на работу при рождении второго и третьего ребенка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586800" indent="-22572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Является феминистической </a:t>
            </a:r>
            <a:r>
              <a:rPr b="0" lang="ru-RU" sz="2000" spc="-1" strike="noStrike" u="sng">
                <a:solidFill>
                  <a:srgbClr val="008080"/>
                </a:solidFill>
                <a:uFillTx/>
                <a:latin typeface="Comic Sans MS"/>
              </a:rPr>
              <a:t>и, одновременно, </a:t>
            </a:r>
            <a:r>
              <a:rPr b="0" lang="en-GB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ро-семейной в некоторых аспектах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FEA0-17B6-470F-9D48-2CC2746002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Общее влияние реализации семейной политики во Франции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Мало сравнительных исследований 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616680" indent="-2372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antrais &amp; Letablier (1993)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16680" indent="-2372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lanchet (1994)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16680" indent="-2372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Ekert, Randall et al. (2001)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284400" indent="-284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Оценка влияния на коэффициент рождаемости в стране 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616680" indent="-2372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о сравнению с английской системой, от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0.1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до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0.2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ребенка, рожденного у женщины связаны с  мерами семейной политики в области налогообложения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16680" indent="-2372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Однако, через несколько десятилетий это составит важный прирост в рождаемости</a:t>
            </a:r>
            <a:br>
              <a:rPr sz="2000"/>
            </a:b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marL="284400" indent="-284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Требуется проведение большего количества исследований с целью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616680" indent="-2372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Принятие во внимание общего климата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16680" indent="-2372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Определение «дружественных по отношению к детям условий»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  <a:p>
            <a:pPr lvl="1" marL="616680" indent="-2372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Более серьезного участия в реализации политики правительственных ведомств и частных фирм </a:t>
            </a:r>
            <a:endParaRPr b="0" lang="en-US" sz="20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79AA-A11B-4AEA-ADAE-19D99EEACC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31840" y="914400"/>
          <a:ext cx="891216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914400"/>
                    <a:ext cx="891216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7998-9B09-483C-A09F-4B43ED3F5D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907920"/>
          <a:ext cx="879156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79156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FD17-0C6E-41B4-A60C-F6F2BF2841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6040" y="923760"/>
          <a:ext cx="87919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23760"/>
                    <a:ext cx="87919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48DA-BC39-42AD-AAF3-6C847AE3FD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6040" y="923760"/>
          <a:ext cx="87919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23760"/>
                    <a:ext cx="87919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390A-F95E-46F5-BF7E-9C70F8CA6F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836640"/>
          <a:ext cx="879156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879156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67F2-1026-4A96-BEA2-AE16BC8819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8:01:33Z</dcterms:created>
  <dc:creator>INED F. Héran</dc:creator>
  <dc:description/>
  <dc:language>en-US</dc:language>
  <cp:lastModifiedBy>Valeria Kogay</cp:lastModifiedBy>
  <dcterms:modified xsi:type="dcterms:W3CDTF">2006-09-26T13:07:51Z</dcterms:modified>
  <cp:revision>193</cp:revision>
  <dc:subject/>
  <dc:title>Présentation PowerPoint</dc:title>
</cp:coreProperties>
</file>